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D0C2-FBB6-452A-ABD2-0FE6F652F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B434-727C-4106-B826-9BF6FB958D8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5F5439-9A28-4D33-A071-0466865A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0A8665-33D3-4C02-83F6-19523898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218036-FB8F-4E02-A137-21C68F7D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BA190A-F344-4558-A86E-6E097B7A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060C8-9AF7-4F55-B36C-9227BD4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E693D2-1EF9-49DE-85B4-B6237382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D4047-C587-464A-9205-4F872631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6F9333-271B-4187-9DD6-4B000269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2507E-CE37-42BC-8456-44C53051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DB68EA-9449-4A9F-9A4F-2CE760BE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BF2A-57D9-4F59-82C0-E1C58D80C2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CE3960-5DD6-4849-90E9-F6296BBD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DDB772-2111-4339-9C38-9736C434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5FABD1-5942-45DD-9DF1-6F6191E1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50396F-CB5A-438A-887B-935EC792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670AC-0475-4174-9D38-2BB72D62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C4EB0-93C7-4F8A-97D1-26D61A6F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6AFAA-A953-48CF-B953-6DA214DE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800749-53D1-4BA6-B61D-AB02B3A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53DEBE-5976-4645-8C8A-3D8DA457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F05650-A786-4F18-8521-801F8243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9805-9815-4EA3-B696-E90A081EB5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28363-52A8-41A5-8430-C74EC4CB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6514F-2965-4788-9B9E-863088E4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F02409-41A9-4CB8-ABB9-ACD2D8A0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81FF6-3984-4950-BF5B-5FA725E8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C7B40-AFC1-4BEA-B3FA-CCA59643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5F1222-0A16-445B-B08F-69E383C0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CFC29-FC62-41E6-BC47-1594A37F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EDFF77-42B7-495C-99C8-7917E2F3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539C9-D1C3-48D5-A86E-713A4262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0018A-A698-4319-81E7-9C8A4C89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62E2-5E59-4CCC-B9A8-23C87A5B80C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D7F2C-95C9-4A36-957E-F7C38509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B43435-3578-4D6F-AD75-AD3517A5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0AA6E-CAF6-48C1-A0F1-D9A7C602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A2D2A1-1880-4B36-A01B-9CDCC4D2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27047-4AC2-489C-9232-CB99CE87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82533-9E34-479A-A40F-96CC8EE1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5D154-2CB9-4DE2-956F-EF2F7E5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FE975-0CB1-4E6A-957D-498EA69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ED931-550A-4A73-A62E-2B4BF2B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EBB13E-75D7-4CF3-BABE-915C28C4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057B-91BC-4BB3-80A6-91502058CD6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6B852-9894-424F-9F16-CDDC0547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17BF4F-4B6A-4871-AF9D-3C1D80A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0AB2D-CF16-4003-BA45-022BD0F8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D2072A-A601-4682-A620-FC379C3D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D207B-3C58-42E4-B985-41C11A4A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709473-8AB3-4CDF-BD13-BE4D196B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A9E075-2E9B-4E4F-9BA3-5F62EA84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36179E-CA5B-4FFE-A31A-1B0B67E9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C8CC3F-439E-4FAD-ADD5-C2439470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710184-1615-4B99-A12F-D6C660A3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DEB7A-39A8-48F1-9CDD-A24979B37CB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AB91EB-AEDD-40D6-A00A-04AB8A1C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A583E8-C9AA-4FB1-9215-5B144ED1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74931B-1536-47CB-B0B4-0ECEA243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22BE85-1593-4457-8C1B-FEE286E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423564-AF29-4F02-9E09-24BD931D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DC1C1C-7F6A-4B9F-A7D7-2358C8CD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02D56C-24F3-4963-AC41-743CD4E8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9292A-A465-4636-9380-F296CF65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F6457-9BDA-4AA8-A230-48054CA7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B8079-48F2-41CE-ABD0-C2FD965E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FACE-6537-43A7-9BFD-0D5C81265A0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E09866-14B1-4C9A-A12A-F0590015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4D6EC-33E7-4381-AC05-B1309081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BF7C1B-1FFD-449C-82C2-846BA89C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9CC38F-8219-459C-B4AA-65B1B90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95FD0-EECB-4C52-8E34-8E85E3DF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5D288-409A-4C53-9892-71E2369B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80827A-7B23-40B8-9AB0-BED496D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D83A0-99AA-45D7-8EB6-E23406DC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7CDE82-2DE1-494A-A9C0-ACB9D13B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12E28E-E050-4434-968F-C08CCBA0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4F2C-8D78-466C-824D-DA3322235CE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2437E6-EC23-481B-977D-389DEF23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3433B0-28B7-4D45-8437-0801FBC4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A8B6A2-16DA-44DE-AEA0-F19B90D6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052B0F-1C03-4B75-863C-528B2355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F6E90F-2A5C-4357-BACF-CFFF6C26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D65C05-84D4-436A-8FD3-240D6B54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81C212-7B6C-48C6-BE62-4D3F016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AB054F-B284-438A-B286-D9D89100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4454BF-6063-4C8C-B217-36CA3C9E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BC8C0D-DE8B-4F66-BFB2-2F4DBD28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B8C2-AFA7-496E-A34A-F2AB287A0E9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D60324-26BC-49F9-BB02-04CFFA27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B54B36-AB74-4F0C-846B-08EE5BF2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8CF98B3-5D02-4969-ACAB-80BE969C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67FCF6-EFFD-4240-9B80-AC156EAC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7A9C10-16D2-4560-BC20-576EFF64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B8FAB30-A254-4B95-88E8-C624ABE1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85EBE1-EFBF-4DC5-AA81-22E2FB87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BA5ADE-0AFB-4253-AB63-14E40F33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AF3536-2690-4D34-BF9E-67C56498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D82476C-EC2E-4C5C-9982-DEE3502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06613-FB73-4B17-A340-26F27B2E952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9D77B9-1A34-4F97-8AB8-51D8E849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712DAE8-3031-4EC1-8D02-60AB2161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FBB326-288E-4CCE-A3ED-351847B4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8A7E-ABDB-49DD-908F-C6896C720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9DCB-6CB6-44D5-8B41-F66CD79191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6D8D1-7E9A-4211-97E4-DF392F32A2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C67B-17CA-48D3-8CD1-EFDAAD4866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03F42-025D-4CA2-B610-1AE5F0B733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9F70-5E50-4275-9652-B58BCD6174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B1F-260F-4681-9795-21B076099E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247-59AE-481E-9657-B49B70E03D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F7A-DC8A-4E9A-A494-A89538A6B7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96A-7B81-4D87-828B-DFBE0A97C6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2FE-373D-429A-BBBD-DC160BF15D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B792-7398-45F3-9174-CFEC74C546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A1E-9617-4DE4-8CC9-57C5EDF81D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0F1A-3389-400F-9B78-1A8FF0F198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6F0-FD56-4868-B68C-EFD0DD98D7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0A3-7219-4D80-A703-E9D96C39F3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D1B-E2D5-4607-9897-2B1D1B2EA1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516-418A-4C36-A78B-CB4579AA57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02D-7C5A-41E2-B49C-FAEE0F2573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9297E-96CF-40AF-9059-7D786E2455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704AF-7014-4121-8826-301F1CA2C49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53F91-03D0-4BC4-BA6F-D4134855F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92FA-C391-49D8-8F21-F1BA1C1520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02127-07B3-4F67-8607-1D212F4991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8BCAE-77A1-4910-B34C-8B2EFCA446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DC9B3-D67D-4F79-A0D2-ECE826E856A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C7AA0-5653-48EB-BD79-E002C2A8DB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B88DC-3790-4600-BBD3-3D3192A46A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BB089-0090-46D2-9475-DAB83CFF148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2A878-D881-4388-9EEC-254F8CF233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6B3CF-4FB4-49AF-8F21-B6988E222D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D2F46-DC1E-489E-ADF6-248AE1E4781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48A96-2161-4EEF-AB89-1B9B7057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80F4-768A-4BD4-B74B-BBA4409822C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F18AE-E6A2-48A1-A221-6959B2DF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814DB-45A5-494C-A532-60D4BCEB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8DD8B-9DCC-4157-9072-A346F26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0FE0B5-0747-4B5E-AA0F-8FACF9E6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05375-5FB4-4E0C-91C0-A23E806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4FC46-4A31-44DB-9531-900A7E6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CCB13-D4E6-4669-90B6-11BB2A7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FD4DE-5D6E-4F76-9E56-CF7AB2A3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8489E-8B48-4F86-B545-6E22B01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F050AD-050D-43CF-BA8F-A2D24B3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7AC7-752A-4C15-B4FF-918F6D7786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951A6-8952-4DA3-A152-BFBE2877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EEE523-64DC-46E4-A968-FDFE87C1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6A60A7-E77D-49DC-80F2-5A39556B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DB29A-05ED-4B6C-BD81-6B7F32D0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90BF5-4665-428A-A3E0-968490F8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09952C-0292-43D2-9641-21C1EC88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505ED3-BA01-4664-9393-5EAA5B38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0075EB-D5E0-473C-A3B9-61262BF7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45C6B-D5E7-434B-8A60-E892CA04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78C76-D5D7-414E-BF05-57D4CFAB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DF11-0E80-4CA1-BB28-FF549C7B80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BEBED-2AB2-487B-9A54-D60052E3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0CF438-F869-40C9-8900-BC8A04AFA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D988AB-D254-4048-90A6-456B8B5A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023173-B636-4034-8D68-3828CBF9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352F7D-E209-42F0-922E-FBEE8B1D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34B190-7D56-4BC1-94EE-FC1A7D3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0464A9-5C1D-4A43-814A-CDFECA54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F1B2E-A351-4B9D-B5E8-42066F66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C20181-16C2-4876-8706-64537777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40326-EA05-4430-A0B4-D446471E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D4A9-0EB0-451C-80B0-09C8A5664B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A67C7F-9E71-43A4-8432-F2E10D17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EC7B7A-0587-4402-A84D-75C881D6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2D726C-9BC6-46EE-8981-CDDE4B5C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DB8245-CF34-49B6-ADFC-A299E1A6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538BD1-D959-46D1-8E97-CD3EE12A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89C71-08DF-4F7B-8263-C111D8F3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E1CB20-E9C7-48B8-99C8-88115B1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A7593-A229-40A4-93D8-D676AEF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EE5277-1780-40D6-BF24-B9A9F35D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7F9E3-E120-43DC-A814-A76D199D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F6AE-14F5-4A38-967B-DF367AE6BAD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209A71-F7CB-4F49-87A7-2097950F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4AE1C-4CAB-42F3-95E5-03512DBC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80376B-E7D6-442E-9729-DCA3EDD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8A380D-C0D0-4BD7-95CD-C810B360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141EB-A6C5-416B-9FC1-F9D6BAE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86D428-0994-45A5-BB77-7B4D6709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2E5AA6-B6C0-4E36-9DA1-18BA0F23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6AD7A9-1167-4EEB-B2AA-B36C0C3C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A312D7-40AE-4671-958A-CABD967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2F9F5-9EC9-4438-ACC4-14D1B4C9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5CFB-11FF-4C64-8D63-6A4D69728B6B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2851-DBAE-4D1E-B2D3-3AB76B529BE1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E6E8-D15E-43A7-BD30-D7FC0ACA7865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E418-9721-45F2-B65B-145E52B7B8DA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4BF3-6958-4232-B0F9-40925D566CD9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683D-0596-4369-B93B-B055C0F8397C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4B4-843D-4F99-94DA-CA60DBE90370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2E27-78A8-45E5-B301-0B687B72610A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048" descr="image.png"/>
          <p:cNvPicPr/>
          <p:nvPr/>
        </p:nvPicPr>
        <p:blipFill>
          <a:blip r:embed="rId2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049" descr="image.png"/>
          <p:cNvPicPr/>
          <p:nvPr/>
        </p:nvPicPr>
        <p:blipFill>
          <a:blip r:embed="rId3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CF05-0D21-4A81-B3DD-64CB6BE5CBB1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072" descr="image.png"/>
          <p:cNvPicPr/>
          <p:nvPr/>
        </p:nvPicPr>
        <p:blipFill>
          <a:blip r:embed="rId2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073" descr="image.png"/>
          <p:cNvPicPr/>
          <p:nvPr/>
        </p:nvPicPr>
        <p:blipFill>
          <a:blip r:embed="rId3"/>
          <a:stretch/>
        </p:blipFill>
        <p:spPr>
          <a:xfrm>
            <a:off x="0" y="-6480"/>
            <a:ext cx="9144000" cy="368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sldNum" idx="3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4C7B-D9CF-4448-8CE5-7EB8D19026E6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5120" descr="image.pn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5121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ldNum" idx="4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422E-ABD8-4920-8C25-877235AD6AC6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C393-B519-4023-92ED-6E795A2D636C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09DB-DF73-425A-B463-081FAB668B43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7867-301B-40C8-AE61-BDD80EFAE61D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EC70-F2B0-4A15-9761-CC01EBE59BAF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4F3D-26A5-4214-A09F-470621559421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2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>
              <a:gd name="textAreaLeft" fmla="*/ 0 w 9200880"/>
              <a:gd name="textAreaRight" fmla="*/ 9201240 w 920088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652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7171"/>
          <p:cNvSpPr/>
          <p:nvPr/>
        </p:nvSpPr>
        <p:spPr>
          <a:xfrm>
            <a:off x="-11160" y="4262400"/>
            <a:ext cx="9201240" cy="1263600"/>
          </a:xfrm>
          <a:custGeom>
            <a:avLst/>
            <a:gdLst>
              <a:gd name="textAreaLeft" fmla="*/ 0 w 9201240"/>
              <a:gd name="textAreaRight" fmla="*/ 9201600 w 92012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微软雅黑"/>
                <a:ea typeface="微软雅黑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793800" y="374760"/>
            <a:ext cx="7556400" cy="4098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</p:pic>
      <p:sp>
        <p:nvSpPr>
          <p:cNvPr id="656" name="矩形 7174"/>
          <p:cNvSpPr/>
          <p:nvPr/>
        </p:nvSpPr>
        <p:spPr>
          <a:xfrm>
            <a:off x="2244600" y="1758960"/>
            <a:ext cx="465480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操作指南 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3" descr=""/>
          <p:cNvPicPr/>
          <p:nvPr/>
        </p:nvPicPr>
        <p:blipFill>
          <a:blip r:embed="rId1"/>
          <a:stretch/>
        </p:blipFill>
        <p:spPr>
          <a:xfrm>
            <a:off x="96840" y="482760"/>
            <a:ext cx="8832960" cy="4338360"/>
          </a:xfrm>
          <a:prstGeom prst="rect">
            <a:avLst/>
          </a:prstGeom>
          <a:ln w="0">
            <a:noFill/>
          </a:ln>
        </p:spPr>
      </p:pic>
      <p:sp>
        <p:nvSpPr>
          <p:cNvPr id="705" name="文本框 7"/>
          <p:cNvSpPr/>
          <p:nvPr/>
        </p:nvSpPr>
        <p:spPr>
          <a:xfrm>
            <a:off x="196920" y="-468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文本框 6" descr=""/>
          <p:cNvPicPr/>
          <p:nvPr/>
        </p:nvPicPr>
        <p:blipFill>
          <a:blip r:embed="rId2"/>
          <a:stretch/>
        </p:blipFill>
        <p:spPr>
          <a:xfrm>
            <a:off x="-36360" y="225360"/>
            <a:ext cx="5162400" cy="2524320"/>
          </a:xfrm>
          <a:prstGeom prst="rect">
            <a:avLst/>
          </a:prstGeom>
          <a:ln w="0">
            <a:noFill/>
          </a:ln>
        </p:spPr>
      </p:pic>
      <p:pic>
        <p:nvPicPr>
          <p:cNvPr id="707" name="直接箭头连接符 7" descr=""/>
          <p:cNvPicPr/>
          <p:nvPr/>
        </p:nvPicPr>
        <p:blipFill>
          <a:blip r:embed="rId3"/>
          <a:stretch/>
        </p:blipFill>
        <p:spPr>
          <a:xfrm>
            <a:off x="285840" y="1017720"/>
            <a:ext cx="866520" cy="519120"/>
          </a:xfrm>
          <a:prstGeom prst="rect">
            <a:avLst/>
          </a:prstGeom>
          <a:ln w="0">
            <a:noFill/>
          </a:ln>
        </p:spPr>
      </p:pic>
      <p:pic>
        <p:nvPicPr>
          <p:cNvPr id="708" name="文本框 4" descr=""/>
          <p:cNvPicPr/>
          <p:nvPr/>
        </p:nvPicPr>
        <p:blipFill>
          <a:blip r:embed="rId4"/>
          <a:stretch/>
        </p:blipFill>
        <p:spPr>
          <a:xfrm>
            <a:off x="-622440" y="2401920"/>
            <a:ext cx="5535720" cy="2517840"/>
          </a:xfrm>
          <a:prstGeom prst="rect">
            <a:avLst/>
          </a:prstGeom>
          <a:ln w="0">
            <a:noFill/>
          </a:ln>
        </p:spPr>
      </p:pic>
      <p:pic>
        <p:nvPicPr>
          <p:cNvPr id="709" name="直接箭头连接符 5" descr=""/>
          <p:cNvPicPr/>
          <p:nvPr/>
        </p:nvPicPr>
        <p:blipFill>
          <a:blip r:embed="rId5"/>
          <a:stretch/>
        </p:blipFill>
        <p:spPr>
          <a:xfrm>
            <a:off x="701640" y="2809800"/>
            <a:ext cx="779400" cy="652680"/>
          </a:xfrm>
          <a:prstGeom prst="rect">
            <a:avLst/>
          </a:prstGeom>
          <a:ln w="0">
            <a:noFill/>
          </a:ln>
        </p:spPr>
      </p:pic>
      <p:pic>
        <p:nvPicPr>
          <p:cNvPr id="710" name="文本框 8" descr=""/>
          <p:cNvPicPr/>
          <p:nvPr/>
        </p:nvPicPr>
        <p:blipFill>
          <a:blip r:embed="rId6"/>
          <a:stretch/>
        </p:blipFill>
        <p:spPr>
          <a:xfrm>
            <a:off x="1805040" y="1311120"/>
            <a:ext cx="5533920" cy="2517840"/>
          </a:xfrm>
          <a:prstGeom prst="rect">
            <a:avLst/>
          </a:prstGeom>
          <a:ln w="0">
            <a:noFill/>
          </a:ln>
        </p:spPr>
      </p:pic>
      <p:pic>
        <p:nvPicPr>
          <p:cNvPr id="711" name="直接箭头连接符 9" descr=""/>
          <p:cNvPicPr/>
          <p:nvPr/>
        </p:nvPicPr>
        <p:blipFill>
          <a:blip r:embed="rId7"/>
          <a:stretch/>
        </p:blipFill>
        <p:spPr>
          <a:xfrm>
            <a:off x="2189160" y="24685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712" name="文本框 10" descr=""/>
          <p:cNvPicPr/>
          <p:nvPr/>
        </p:nvPicPr>
        <p:blipFill>
          <a:blip r:embed="rId8"/>
          <a:stretch/>
        </p:blipFill>
        <p:spPr>
          <a:xfrm>
            <a:off x="3139920" y="2944800"/>
            <a:ext cx="4364280" cy="2517840"/>
          </a:xfrm>
          <a:prstGeom prst="rect">
            <a:avLst/>
          </a:prstGeom>
          <a:ln w="0">
            <a:noFill/>
          </a:ln>
        </p:spPr>
      </p:pic>
      <p:pic>
        <p:nvPicPr>
          <p:cNvPr id="713" name="直接箭头连接符 11" descr=""/>
          <p:cNvPicPr/>
          <p:nvPr/>
        </p:nvPicPr>
        <p:blipFill>
          <a:blip r:embed="rId9"/>
          <a:stretch/>
        </p:blipFill>
        <p:spPr>
          <a:xfrm>
            <a:off x="3468600" y="4267080"/>
            <a:ext cx="706680" cy="438120"/>
          </a:xfrm>
          <a:prstGeom prst="rect">
            <a:avLst/>
          </a:prstGeom>
          <a:ln w="0">
            <a:noFill/>
          </a:ln>
        </p:spPr>
      </p:pic>
      <p:pic>
        <p:nvPicPr>
          <p:cNvPr id="714" name="文本框 12" descr=""/>
          <p:cNvPicPr/>
          <p:nvPr/>
        </p:nvPicPr>
        <p:blipFill>
          <a:blip r:embed="rId10"/>
          <a:stretch/>
        </p:blipFill>
        <p:spPr>
          <a:xfrm>
            <a:off x="5157720" y="2127240"/>
            <a:ext cx="3778200" cy="2517840"/>
          </a:xfrm>
          <a:prstGeom prst="rect">
            <a:avLst/>
          </a:prstGeom>
          <a:ln w="0">
            <a:noFill/>
          </a:ln>
        </p:spPr>
      </p:pic>
      <p:pic>
        <p:nvPicPr>
          <p:cNvPr id="715" name="直接箭头连接符 13" descr=""/>
          <p:cNvPicPr/>
          <p:nvPr/>
        </p:nvPicPr>
        <p:blipFill>
          <a:blip r:embed="rId11"/>
          <a:stretch/>
        </p:blipFill>
        <p:spPr>
          <a:xfrm>
            <a:off x="6931080" y="2676600"/>
            <a:ext cx="365040" cy="493560"/>
          </a:xfrm>
          <a:prstGeom prst="rect">
            <a:avLst/>
          </a:prstGeom>
          <a:ln w="0">
            <a:noFill/>
          </a:ln>
        </p:spPr>
      </p:pic>
      <p:pic>
        <p:nvPicPr>
          <p:cNvPr id="716" name="图片 2" descr=""/>
          <p:cNvPicPr/>
          <p:nvPr/>
        </p:nvPicPr>
        <p:blipFill>
          <a:blip r:embed="rId12"/>
          <a:stretch/>
        </p:blipFill>
        <p:spPr>
          <a:xfrm>
            <a:off x="4562640" y="2562120"/>
            <a:ext cx="18720" cy="19080"/>
          </a:xfrm>
          <a:prstGeom prst="rect">
            <a:avLst/>
          </a:prstGeom>
          <a:ln w="0">
            <a:noFill/>
          </a:ln>
        </p:spPr>
      </p:pic>
      <p:sp>
        <p:nvSpPr>
          <p:cNvPr id="717" name="文本框 14"/>
          <p:cNvSpPr/>
          <p:nvPr/>
        </p:nvSpPr>
        <p:spPr>
          <a:xfrm>
            <a:off x="6627600" y="178272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6.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帮助中心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操作提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直接箭头连接符 15" descr=""/>
          <p:cNvPicPr/>
          <p:nvPr/>
        </p:nvPicPr>
        <p:blipFill>
          <a:blip r:embed="rId13"/>
          <a:stretch/>
        </p:blipFill>
        <p:spPr>
          <a:xfrm>
            <a:off x="7139160" y="1395360"/>
            <a:ext cx="95076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1" descr=""/>
          <p:cNvPicPr/>
          <p:nvPr/>
        </p:nvPicPr>
        <p:blipFill>
          <a:blip r:embed="rId1"/>
          <a:stretch/>
        </p:blipFill>
        <p:spPr>
          <a:xfrm>
            <a:off x="90360" y="500040"/>
            <a:ext cx="8840880" cy="434484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7"/>
          <p:cNvSpPr/>
          <p:nvPr/>
        </p:nvSpPr>
        <p:spPr>
          <a:xfrm>
            <a:off x="293760" y="27000"/>
            <a:ext cx="43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文本框 6" descr=""/>
          <p:cNvPicPr/>
          <p:nvPr/>
        </p:nvPicPr>
        <p:blipFill>
          <a:blip r:embed="rId2"/>
          <a:stretch/>
        </p:blipFill>
        <p:spPr>
          <a:xfrm>
            <a:off x="3340080" y="2225520"/>
            <a:ext cx="4645080" cy="2517840"/>
          </a:xfrm>
          <a:prstGeom prst="rect">
            <a:avLst/>
          </a:prstGeom>
          <a:ln w="0">
            <a:noFill/>
          </a:ln>
        </p:spPr>
      </p:pic>
      <p:pic>
        <p:nvPicPr>
          <p:cNvPr id="722" name="直接箭头连接符 7" descr=""/>
          <p:cNvPicPr/>
          <p:nvPr/>
        </p:nvPicPr>
        <p:blipFill>
          <a:blip r:embed="rId3"/>
          <a:stretch/>
        </p:blipFill>
        <p:spPr>
          <a:xfrm>
            <a:off x="3651120" y="3554280"/>
            <a:ext cx="755640" cy="669960"/>
          </a:xfrm>
          <a:prstGeom prst="rect">
            <a:avLst/>
          </a:prstGeom>
          <a:ln w="0">
            <a:noFill/>
          </a:ln>
        </p:spPr>
      </p:pic>
      <p:pic>
        <p:nvPicPr>
          <p:cNvPr id="723" name="图片 1" descr="返回"/>
          <p:cNvPicPr/>
          <p:nvPr/>
        </p:nvPicPr>
        <p:blipFill>
          <a:blip r:embed="rId4"/>
          <a:stretch/>
        </p:blipFill>
        <p:spPr>
          <a:xfrm>
            <a:off x="8867880" y="4602240"/>
            <a:ext cx="244440" cy="242640"/>
          </a:xfrm>
          <a:prstGeom prst="rect">
            <a:avLst/>
          </a:prstGeom>
          <a:ln w="0">
            <a:noFill/>
          </a:ln>
        </p:spPr>
      </p:pic>
      <p:sp>
        <p:nvSpPr>
          <p:cNvPr id="724" name="文本框 14"/>
          <p:cNvSpPr/>
          <p:nvPr/>
        </p:nvSpPr>
        <p:spPr>
          <a:xfrm>
            <a:off x="6647040" y="178272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帮助中心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操作提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直接箭头连接符 2" descr=""/>
          <p:cNvPicPr/>
          <p:nvPr/>
        </p:nvPicPr>
        <p:blipFill>
          <a:blip r:embed="rId5"/>
          <a:stretch/>
        </p:blipFill>
        <p:spPr>
          <a:xfrm>
            <a:off x="7394400" y="1395360"/>
            <a:ext cx="6526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矩形 30720"/>
          <p:cNvSpPr/>
          <p:nvPr/>
        </p:nvSpPr>
        <p:spPr>
          <a:xfrm>
            <a:off x="163440" y="44280"/>
            <a:ext cx="15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0724"/>
          <p:cNvSpPr/>
          <p:nvPr/>
        </p:nvSpPr>
        <p:spPr>
          <a:xfrm>
            <a:off x="6889680" y="3273480"/>
            <a:ext cx="304920" cy="3078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1"/>
          <p:cNvSpPr/>
          <p:nvPr/>
        </p:nvSpPr>
        <p:spPr>
          <a:xfrm>
            <a:off x="1120680" y="660240"/>
            <a:ext cx="6813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我的实习生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我的实习生”功能菜单，进入已参与实习学生列表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实习过程统计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日志、批阅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3" descr=""/>
          <p:cNvPicPr/>
          <p:nvPr/>
        </p:nvPicPr>
        <p:blipFill>
          <a:blip r:embed="rId1"/>
          <a:stretch/>
        </p:blipFill>
        <p:spPr>
          <a:xfrm>
            <a:off x="347760" y="636480"/>
            <a:ext cx="8450280" cy="3589560"/>
          </a:xfrm>
          <a:prstGeom prst="rect">
            <a:avLst/>
          </a:prstGeom>
          <a:ln w="0">
            <a:noFill/>
          </a:ln>
        </p:spPr>
      </p:pic>
      <p:sp>
        <p:nvSpPr>
          <p:cNvPr id="730" name="矩形 59407"/>
          <p:cNvSpPr/>
          <p:nvPr/>
        </p:nvSpPr>
        <p:spPr>
          <a:xfrm>
            <a:off x="150840" y="9000"/>
            <a:ext cx="36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实习生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40"/>
          <p:cNvSpPr/>
          <p:nvPr/>
        </p:nvSpPr>
        <p:spPr>
          <a:xfrm>
            <a:off x="1514520" y="1492200"/>
            <a:ext cx="281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1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实习过程统计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*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只显示已参与实习的学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文本框 40"/>
          <p:cNvSpPr/>
          <p:nvPr/>
        </p:nvSpPr>
        <p:spPr>
          <a:xfrm>
            <a:off x="3355920" y="1012680"/>
            <a:ext cx="19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2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学生参与情况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*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显示所有的实习生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 160"/>
          <p:cNvSpPr/>
          <p:nvPr/>
        </p:nvSpPr>
        <p:spPr>
          <a:xfrm rot="13320000">
            <a:off x="1946160" y="1236600"/>
            <a:ext cx="557280" cy="168480"/>
          </a:xfrm>
          <a:custGeom>
            <a:avLst/>
            <a:gdLst/>
            <a:ahLst/>
            <a:rect l="l" t="t" r="r" b="b"/>
            <a:pathLst>
              <a:path w="2860172" h="2023853">
                <a:moveTo>
                  <a:pt x="2723651" y="817"/>
                </a:moveTo>
                <a:cubicBezTo>
                  <a:pt x="2768908" y="-3349"/>
                  <a:pt x="2804496" y="8545"/>
                  <a:pt x="2826935" y="33337"/>
                </a:cubicBezTo>
                <a:cubicBezTo>
                  <a:pt x="2828146" y="33729"/>
                  <a:pt x="2828970" y="34520"/>
                  <a:pt x="2829774" y="35326"/>
                </a:cubicBezTo>
                <a:cubicBezTo>
                  <a:pt x="2860445" y="66039"/>
                  <a:pt x="2869482" y="118360"/>
                  <a:pt x="2849613" y="185007"/>
                </a:cubicBezTo>
                <a:lnTo>
                  <a:pt x="2807494" y="326285"/>
                </a:lnTo>
                <a:lnTo>
                  <a:pt x="2480152" y="1326140"/>
                </a:lnTo>
                <a:lnTo>
                  <a:pt x="2479216" y="1322755"/>
                </a:lnTo>
                <a:lnTo>
                  <a:pt x="2348905" y="1721466"/>
                </a:lnTo>
                <a:lnTo>
                  <a:pt x="2280556" y="1058272"/>
                </a:lnTo>
                <a:lnTo>
                  <a:pt x="2226338" y="1103673"/>
                </a:lnTo>
                <a:cubicBezTo>
                  <a:pt x="1323053" y="1809646"/>
                  <a:pt x="162385" y="2005519"/>
                  <a:pt x="0" y="2023853"/>
                </a:cubicBezTo>
                <a:cubicBezTo>
                  <a:pt x="722027" y="1807246"/>
                  <a:pt x="1311081" y="1275400"/>
                  <a:pt x="1702841" y="735848"/>
                </a:cubicBezTo>
                <a:lnTo>
                  <a:pt x="1811294" y="575004"/>
                </a:lnTo>
                <a:lnTo>
                  <a:pt x="1151281" y="506068"/>
                </a:lnTo>
                <a:lnTo>
                  <a:pt x="2640411" y="20803"/>
                </a:lnTo>
                <a:lnTo>
                  <a:pt x="2675299" y="10454"/>
                </a:lnTo>
                <a:cubicBezTo>
                  <a:pt x="2692405" y="5379"/>
                  <a:pt x="2708565" y="2206"/>
                  <a:pt x="2723651" y="817"/>
                </a:cubicBezTo>
                <a:close/>
              </a:path>
            </a:pathLst>
          </a:cu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 160"/>
          <p:cNvSpPr/>
          <p:nvPr/>
        </p:nvSpPr>
        <p:spPr>
          <a:xfrm rot="13320000">
            <a:off x="2813040" y="1066320"/>
            <a:ext cx="557280" cy="166680"/>
          </a:xfrm>
          <a:custGeom>
            <a:avLst/>
            <a:gdLst/>
            <a:ahLst/>
            <a:rect l="l" t="t" r="r" b="b"/>
            <a:pathLst>
              <a:path w="2860172" h="2023853">
                <a:moveTo>
                  <a:pt x="2723651" y="817"/>
                </a:moveTo>
                <a:cubicBezTo>
                  <a:pt x="2768908" y="-3349"/>
                  <a:pt x="2804496" y="8545"/>
                  <a:pt x="2826935" y="33337"/>
                </a:cubicBezTo>
                <a:cubicBezTo>
                  <a:pt x="2828146" y="33729"/>
                  <a:pt x="2828970" y="34520"/>
                  <a:pt x="2829774" y="35326"/>
                </a:cubicBezTo>
                <a:cubicBezTo>
                  <a:pt x="2860445" y="66039"/>
                  <a:pt x="2869482" y="118360"/>
                  <a:pt x="2849613" y="185007"/>
                </a:cubicBezTo>
                <a:lnTo>
                  <a:pt x="2807494" y="326285"/>
                </a:lnTo>
                <a:lnTo>
                  <a:pt x="2480152" y="1326140"/>
                </a:lnTo>
                <a:lnTo>
                  <a:pt x="2479216" y="1322755"/>
                </a:lnTo>
                <a:lnTo>
                  <a:pt x="2348905" y="1721466"/>
                </a:lnTo>
                <a:lnTo>
                  <a:pt x="2280556" y="1058272"/>
                </a:lnTo>
                <a:lnTo>
                  <a:pt x="2226338" y="1103673"/>
                </a:lnTo>
                <a:cubicBezTo>
                  <a:pt x="1323053" y="1809646"/>
                  <a:pt x="162385" y="2005519"/>
                  <a:pt x="0" y="2023853"/>
                </a:cubicBezTo>
                <a:cubicBezTo>
                  <a:pt x="722027" y="1807246"/>
                  <a:pt x="1311081" y="1275400"/>
                  <a:pt x="1702841" y="735848"/>
                </a:cubicBezTo>
                <a:lnTo>
                  <a:pt x="1811294" y="575004"/>
                </a:lnTo>
                <a:lnTo>
                  <a:pt x="1151281" y="506068"/>
                </a:lnTo>
                <a:lnTo>
                  <a:pt x="2640411" y="20803"/>
                </a:lnTo>
                <a:lnTo>
                  <a:pt x="2675299" y="10454"/>
                </a:lnTo>
                <a:cubicBezTo>
                  <a:pt x="2692405" y="5379"/>
                  <a:pt x="2708565" y="2206"/>
                  <a:pt x="2723651" y="817"/>
                </a:cubicBezTo>
                <a:close/>
              </a:path>
            </a:pathLst>
          </a:cu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文本框 40"/>
          <p:cNvSpPr/>
          <p:nvPr/>
        </p:nvSpPr>
        <p:spPr>
          <a:xfrm>
            <a:off x="6283440" y="1295280"/>
            <a:ext cx="1946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3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，查看详情进入，可具体查看日志、批阅实习报告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师端小程序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矩形 59407"/>
          <p:cNvSpPr/>
          <p:nvPr/>
        </p:nvSpPr>
        <p:spPr>
          <a:xfrm>
            <a:off x="104760" y="16200"/>
            <a:ext cx="58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小程序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台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图片 -2147482609" descr=""/>
          <p:cNvPicPr/>
          <p:nvPr/>
        </p:nvPicPr>
        <p:blipFill>
          <a:blip r:embed="rId1"/>
          <a:stretch/>
        </p:blipFill>
        <p:spPr>
          <a:xfrm>
            <a:off x="198360" y="579600"/>
            <a:ext cx="6905880" cy="3738240"/>
          </a:xfrm>
          <a:prstGeom prst="rect">
            <a:avLst/>
          </a:prstGeom>
          <a:ln w="0">
            <a:noFill/>
          </a:ln>
        </p:spPr>
      </p:pic>
      <p:sp>
        <p:nvSpPr>
          <p:cNvPr id="743" name="文本框 5"/>
          <p:cNvSpPr/>
          <p:nvPr/>
        </p:nvSpPr>
        <p:spPr>
          <a:xfrm>
            <a:off x="7227720" y="1087560"/>
            <a:ext cx="1714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点击“工作台”→点击“过程管理”→“周日志批阅”→查看学生日志内容或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点击待办事项下方的周日志批阅，进行打分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矩形 59407"/>
          <p:cNvSpPr/>
          <p:nvPr/>
        </p:nvSpPr>
        <p:spPr>
          <a:xfrm>
            <a:off x="104760" y="16200"/>
            <a:ext cx="588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小程序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台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文本框 3"/>
          <p:cNvSpPr/>
          <p:nvPr/>
        </p:nvSpPr>
        <p:spPr>
          <a:xfrm>
            <a:off x="6838920" y="600120"/>
            <a:ext cx="213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点击“工作台”→点击“过程管理”→“报告批阅”→查看学生报告内容→点击“审批通过”或“退回修改”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或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点击待办事项下的报告批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libri"/>
              </a:rPr>
              <a:t>说明：第三张图的界面上方可以切换报告的批阅状态，查看已批阅、退回、无需批阅等状态的实习报告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图片 -2147482608" descr=""/>
          <p:cNvPicPr/>
          <p:nvPr/>
        </p:nvPicPr>
        <p:blipFill>
          <a:blip r:embed="rId1"/>
          <a:stretch/>
        </p:blipFill>
        <p:spPr>
          <a:xfrm>
            <a:off x="104760" y="600120"/>
            <a:ext cx="68407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矩形 75776"/>
          <p:cNvSpPr/>
          <p:nvPr/>
        </p:nvSpPr>
        <p:spPr>
          <a:xfrm>
            <a:off x="0" y="-19080"/>
            <a:ext cx="9144000" cy="51627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电话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79-8272206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757972178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Q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01048075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矩形 75777" descr=""/>
          <p:cNvPicPr/>
          <p:nvPr/>
        </p:nvPicPr>
        <p:blipFill>
          <a:blip r:embed="rId1"/>
          <a:stretch/>
        </p:blipFill>
        <p:spPr>
          <a:xfrm>
            <a:off x="6059520" y="2120760"/>
            <a:ext cx="1365120" cy="682920"/>
          </a:xfrm>
          <a:prstGeom prst="rect">
            <a:avLst/>
          </a:prstGeom>
          <a:ln w="0">
            <a:noFill/>
          </a:ln>
        </p:spPr>
      </p:pic>
      <p:grpSp>
        <p:nvGrpSpPr>
          <p:cNvPr id="749" name="组合 75778"/>
          <p:cNvGrpSpPr/>
          <p:nvPr/>
        </p:nvGrpSpPr>
        <p:grpSpPr>
          <a:xfrm>
            <a:off x="223920" y="351000"/>
            <a:ext cx="6562800" cy="4422600"/>
            <a:chOff x="223920" y="351000"/>
            <a:chExt cx="6562800" cy="4422600"/>
          </a:xfrm>
        </p:grpSpPr>
        <p:sp>
          <p:nvSpPr>
            <p:cNvPr id="750" name="任意多边形 75779"/>
            <p:cNvSpPr/>
            <p:nvPr/>
          </p:nvSpPr>
          <p:spPr>
            <a:xfrm>
              <a:off x="223920" y="351000"/>
              <a:ext cx="6562800" cy="4422600"/>
            </a:xfrm>
            <a:custGeom>
              <a:avLst/>
              <a:gdLst>
                <a:gd name="textAreaLeft" fmla="*/ 0 w 6562800"/>
                <a:gd name="textAreaRight" fmla="*/ 6563160 w 6562800"/>
                <a:gd name="textAreaTop" fmla="*/ 0 h 4422600"/>
                <a:gd name="textAreaBottom" fmla="*/ 4422600 h 44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644"/>
                  </a:moveTo>
                  <a:cubicBezTo>
                    <a:pt x="21594" y="17103"/>
                    <a:pt x="21589" y="19141"/>
                    <a:pt x="21583" y="21600"/>
                  </a:cubicBezTo>
                  <a:lnTo>
                    <a:pt x="0" y="21600"/>
                  </a:lnTo>
                  <a:lnTo>
                    <a:pt x="0" y="0"/>
                  </a:lnTo>
                  <a:lnTo>
                    <a:pt x="21583" y="0"/>
                  </a:lnTo>
                  <a:cubicBezTo>
                    <a:pt x="21575" y="2217"/>
                    <a:pt x="21547" y="6767"/>
                    <a:pt x="21547" y="6767"/>
                  </a:cubicBez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75780"/>
            <p:cNvSpPr/>
            <p:nvPr/>
          </p:nvSpPr>
          <p:spPr>
            <a:xfrm>
              <a:off x="223920" y="2424240"/>
              <a:ext cx="65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任意多边形 8196"/>
          <p:cNvSpPr/>
          <p:nvPr/>
        </p:nvSpPr>
        <p:spPr>
          <a:xfrm>
            <a:off x="3157560" y="244944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3"/>
          <p:cNvSpPr/>
          <p:nvPr/>
        </p:nvSpPr>
        <p:spPr>
          <a:xfrm>
            <a:off x="574560" y="681120"/>
            <a:ext cx="7736040" cy="33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PC</a:t>
            </a: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“教师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您要登录的学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选择省份或或者关键字搜索学校）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第一次登入时可绑定手机或者邮箱，并重设密码。绑定手机或者邮箱以便忘记密码时可自行重置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图片 1" descr=""/>
          <p:cNvPicPr/>
          <p:nvPr/>
        </p:nvPicPr>
        <p:blipFill>
          <a:blip r:embed="rId1"/>
          <a:stretch/>
        </p:blipFill>
        <p:spPr>
          <a:xfrm>
            <a:off x="3381480" y="2700360"/>
            <a:ext cx="5514840" cy="2255760"/>
          </a:xfrm>
          <a:prstGeom prst="rect">
            <a:avLst/>
          </a:prstGeom>
          <a:ln w="0">
            <a:noFill/>
          </a:ln>
        </p:spPr>
      </p:pic>
      <p:sp>
        <p:nvSpPr>
          <p:cNvPr id="666" name="矩形 59407"/>
          <p:cNvSpPr/>
          <p:nvPr/>
        </p:nvSpPr>
        <p:spPr>
          <a:xfrm>
            <a:off x="316080" y="1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文本框 2" descr=""/>
          <p:cNvPicPr/>
          <p:nvPr/>
        </p:nvPicPr>
        <p:blipFill>
          <a:blip r:embed="rId2"/>
          <a:stretch/>
        </p:blipFill>
        <p:spPr>
          <a:xfrm>
            <a:off x="165240" y="1798560"/>
            <a:ext cx="4930560" cy="2766960"/>
          </a:xfrm>
          <a:prstGeom prst="rect">
            <a:avLst/>
          </a:prstGeom>
          <a:ln w="0">
            <a:noFill/>
          </a:ln>
        </p:spPr>
      </p:pic>
      <p:pic>
        <p:nvPicPr>
          <p:cNvPr id="668" name="直接箭头连接符 5" descr=""/>
          <p:cNvPicPr/>
          <p:nvPr/>
        </p:nvPicPr>
        <p:blipFill>
          <a:blip r:embed="rId3"/>
          <a:stretch/>
        </p:blipFill>
        <p:spPr>
          <a:xfrm>
            <a:off x="4194000" y="3206880"/>
            <a:ext cx="676440" cy="506160"/>
          </a:xfrm>
          <a:prstGeom prst="rect">
            <a:avLst/>
          </a:prstGeom>
          <a:ln w="0">
            <a:noFill/>
          </a:ln>
        </p:spPr>
      </p:pic>
      <p:grpSp>
        <p:nvGrpSpPr>
          <p:cNvPr id="669" name="文本框 6"/>
          <p:cNvGrpSpPr/>
          <p:nvPr/>
        </p:nvGrpSpPr>
        <p:grpSpPr>
          <a:xfrm>
            <a:off x="1158840" y="2835360"/>
            <a:ext cx="4151520" cy="2517840"/>
            <a:chOff x="1158840" y="2835360"/>
            <a:chExt cx="4151520" cy="2517840"/>
          </a:xfrm>
        </p:grpSpPr>
        <p:pic>
          <p:nvPicPr>
            <p:cNvPr id="670" name="文本框 6" descr=""/>
            <p:cNvPicPr/>
            <p:nvPr/>
          </p:nvPicPr>
          <p:blipFill>
            <a:blip r:embed="rId4"/>
            <a:stretch/>
          </p:blipFill>
          <p:spPr>
            <a:xfrm>
              <a:off x="1158840" y="2835360"/>
              <a:ext cx="415152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>
              <a:off x="2247840" y="3922560"/>
              <a:ext cx="19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df0024"/>
                  </a:solidFill>
                  <a:latin typeface="微软雅黑"/>
                  <a:ea typeface="微软雅黑"/>
                </a:rPr>
                <a:t>3</a:t>
              </a:r>
              <a:r>
                <a:rPr b="1" sz="1600" spc="-1" strike="noStrike">
                  <a:solidFill>
                    <a:srgbClr val="df0024"/>
                  </a:solidFill>
                  <a:latin typeface="微软雅黑"/>
                  <a:ea typeface="微软雅黑"/>
                </a:rPr>
                <a:t>，输入账号和密码</a:t>
              </a:r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2" name="直接箭头连接符 7" descr=""/>
          <p:cNvPicPr/>
          <p:nvPr/>
        </p:nvPicPr>
        <p:blipFill>
          <a:blip r:embed="rId5"/>
          <a:stretch/>
        </p:blipFill>
        <p:spPr>
          <a:xfrm>
            <a:off x="4206960" y="3743280"/>
            <a:ext cx="646200" cy="46836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3" descr=""/>
          <p:cNvPicPr/>
          <p:nvPr/>
        </p:nvPicPr>
        <p:blipFill>
          <a:blip r:embed="rId6"/>
          <a:stretch/>
        </p:blipFill>
        <p:spPr>
          <a:xfrm>
            <a:off x="316080" y="457200"/>
            <a:ext cx="6615000" cy="212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74" name="文本框 4" descr=""/>
          <p:cNvPicPr/>
          <p:nvPr/>
        </p:nvPicPr>
        <p:blipFill>
          <a:blip r:embed="rId7"/>
          <a:stretch/>
        </p:blipFill>
        <p:spPr>
          <a:xfrm>
            <a:off x="5145120" y="19080"/>
            <a:ext cx="4370400" cy="2516040"/>
          </a:xfrm>
          <a:prstGeom prst="rect">
            <a:avLst/>
          </a:prstGeom>
          <a:ln w="0">
            <a:noFill/>
          </a:ln>
        </p:spPr>
      </p:pic>
      <p:pic>
        <p:nvPicPr>
          <p:cNvPr id="675" name="直接箭头连接符 8" descr=""/>
          <p:cNvPicPr/>
          <p:nvPr/>
        </p:nvPicPr>
        <p:blipFill>
          <a:blip r:embed="rId8"/>
          <a:stretch/>
        </p:blipFill>
        <p:spPr>
          <a:xfrm>
            <a:off x="5357880" y="493560"/>
            <a:ext cx="92700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43000" y="841320"/>
            <a:ext cx="68580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Calibri"/>
              </a:rPr>
              <a:t>登录指南</a:t>
            </a: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zh-CN" sz="4500" spc="-1" strike="noStrike">
                <a:solidFill>
                  <a:srgbClr val="000000"/>
                </a:solidFill>
                <a:latin typeface="Calibri"/>
              </a:rPr>
              <a:t>微信小程序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2"/>
          <p:cNvSpPr/>
          <p:nvPr/>
        </p:nvSpPr>
        <p:spPr>
          <a:xfrm>
            <a:off x="0" y="533520"/>
            <a:ext cx="4603680" cy="10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文鼎中楷体"/>
                <a:ea typeface="文鼎中楷体"/>
              </a:rPr>
              <a:t>关注教师端小程序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微信扫描下方二维码关注校友邦教师端公众号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点击实践管理→工作台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6"/>
          <p:cNvSpPr/>
          <p:nvPr/>
        </p:nvSpPr>
        <p:spPr>
          <a:xfrm>
            <a:off x="4708440" y="343080"/>
            <a:ext cx="429912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000"/>
                </a:solidFill>
                <a:latin typeface="文鼎中楷体"/>
                <a:ea typeface="文鼎中楷体"/>
              </a:rPr>
              <a:t>小程序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输入学校、账号、密码进行登录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在下方我的→设置里可以退出登录，切换账号或修改密码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文鼎中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教师账号统一生成，无需自行注册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9" name="图片 7" descr=""/>
          <p:cNvPicPr/>
          <p:nvPr/>
        </p:nvPicPr>
        <p:blipFill>
          <a:blip r:embed="rId1"/>
          <a:stretch/>
        </p:blipFill>
        <p:spPr>
          <a:xfrm>
            <a:off x="5037120" y="2139840"/>
            <a:ext cx="1862280" cy="2700360"/>
          </a:xfrm>
          <a:prstGeom prst="rect">
            <a:avLst/>
          </a:prstGeom>
          <a:ln w="0">
            <a:noFill/>
          </a:ln>
        </p:spPr>
      </p:pic>
      <p:pic>
        <p:nvPicPr>
          <p:cNvPr id="680" name="图片 4" descr=""/>
          <p:cNvPicPr/>
          <p:nvPr/>
        </p:nvPicPr>
        <p:blipFill>
          <a:blip r:embed="rId2"/>
          <a:stretch/>
        </p:blipFill>
        <p:spPr>
          <a:xfrm>
            <a:off x="69840" y="2057400"/>
            <a:ext cx="2355840" cy="2355840"/>
          </a:xfrm>
          <a:prstGeom prst="rect">
            <a:avLst/>
          </a:prstGeom>
          <a:ln w="0">
            <a:noFill/>
          </a:ln>
        </p:spPr>
      </p:pic>
      <p:pic>
        <p:nvPicPr>
          <p:cNvPr id="681" name="图片 5" descr=""/>
          <p:cNvPicPr/>
          <p:nvPr/>
        </p:nvPicPr>
        <p:blipFill>
          <a:blip r:embed="rId3"/>
          <a:stretch/>
        </p:blipFill>
        <p:spPr>
          <a:xfrm>
            <a:off x="2425680" y="2066760"/>
            <a:ext cx="2432160" cy="234648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8" descr=""/>
          <p:cNvPicPr/>
          <p:nvPr/>
        </p:nvPicPr>
        <p:blipFill>
          <a:blip r:embed="rId4"/>
          <a:stretch/>
        </p:blipFill>
        <p:spPr>
          <a:xfrm>
            <a:off x="6948360" y="2139840"/>
            <a:ext cx="19018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任意多边形 8196"/>
          <p:cNvSpPr/>
          <p:nvPr/>
        </p:nvSpPr>
        <p:spPr>
          <a:xfrm>
            <a:off x="3203640" y="244944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df0024"/>
          </a:solidFill>
          <a:ln w="12600">
            <a:solidFill>
              <a:srgbClr val="ff53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8197"/>
          <p:cNvSpPr/>
          <p:nvPr/>
        </p:nvSpPr>
        <p:spPr>
          <a:xfrm>
            <a:off x="3995640" y="2513880"/>
            <a:ext cx="196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矩形 8200"/>
          <p:cNvSpPr/>
          <p:nvPr/>
        </p:nvSpPr>
        <p:spPr>
          <a:xfrm>
            <a:off x="527040" y="2129760"/>
            <a:ext cx="18558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任意多边形 8198"/>
          <p:cNvSpPr/>
          <p:nvPr/>
        </p:nvSpPr>
        <p:spPr>
          <a:xfrm>
            <a:off x="3201840" y="1444680"/>
            <a:ext cx="36450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任意多边形 8196"/>
          <p:cNvSpPr/>
          <p:nvPr/>
        </p:nvSpPr>
        <p:spPr>
          <a:xfrm>
            <a:off x="3197160" y="3332160"/>
            <a:ext cx="3643200" cy="404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矩形 29696"/>
          <p:cNvSpPr/>
          <p:nvPr/>
        </p:nvSpPr>
        <p:spPr>
          <a:xfrm>
            <a:off x="166680" y="0"/>
            <a:ext cx="42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志查看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文本框 1"/>
          <p:cNvSpPr/>
          <p:nvPr/>
        </p:nvSpPr>
        <p:spPr>
          <a:xfrm>
            <a:off x="1787400" y="1135080"/>
            <a:ext cx="581364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日志批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周日志批阅”，批阅学生提交的日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收藏或导出日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2" descr=""/>
          <p:cNvPicPr/>
          <p:nvPr/>
        </p:nvPicPr>
        <p:blipFill>
          <a:blip r:embed="rId1"/>
          <a:stretch/>
        </p:blipFill>
        <p:spPr>
          <a:xfrm>
            <a:off x="55440" y="345960"/>
            <a:ext cx="9033120" cy="4453200"/>
          </a:xfrm>
          <a:prstGeom prst="rect">
            <a:avLst/>
          </a:prstGeom>
          <a:ln w="0">
            <a:noFill/>
          </a:ln>
        </p:spPr>
      </p:pic>
      <p:sp>
        <p:nvSpPr>
          <p:cNvPr id="691" name="矩形 29696"/>
          <p:cNvSpPr/>
          <p:nvPr/>
        </p:nvSpPr>
        <p:spPr>
          <a:xfrm>
            <a:off x="166680" y="0"/>
            <a:ext cx="402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志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文本框 6" descr=""/>
          <p:cNvPicPr/>
          <p:nvPr/>
        </p:nvPicPr>
        <p:blipFill>
          <a:blip r:embed="rId2"/>
          <a:stretch/>
        </p:blipFill>
        <p:spPr>
          <a:xfrm>
            <a:off x="-66600" y="450720"/>
            <a:ext cx="5162400" cy="2517840"/>
          </a:xfrm>
          <a:prstGeom prst="rect">
            <a:avLst/>
          </a:prstGeom>
          <a:ln w="0">
            <a:noFill/>
          </a:ln>
        </p:spPr>
      </p:pic>
      <p:pic>
        <p:nvPicPr>
          <p:cNvPr id="693" name="直接箭头连接符 7" descr=""/>
          <p:cNvPicPr/>
          <p:nvPr/>
        </p:nvPicPr>
        <p:blipFill>
          <a:blip r:embed="rId3"/>
          <a:stretch/>
        </p:blipFill>
        <p:spPr>
          <a:xfrm>
            <a:off x="176040" y="914400"/>
            <a:ext cx="866880" cy="517680"/>
          </a:xfrm>
          <a:prstGeom prst="rect">
            <a:avLst/>
          </a:prstGeom>
          <a:ln w="0">
            <a:noFill/>
          </a:ln>
        </p:spPr>
      </p:pic>
      <p:pic>
        <p:nvPicPr>
          <p:cNvPr id="694" name="文本框 4" descr=""/>
          <p:cNvPicPr/>
          <p:nvPr/>
        </p:nvPicPr>
        <p:blipFill>
          <a:blip r:embed="rId4"/>
          <a:stretch/>
        </p:blipFill>
        <p:spPr>
          <a:xfrm>
            <a:off x="212760" y="1238400"/>
            <a:ext cx="5529240" cy="2516040"/>
          </a:xfrm>
          <a:prstGeom prst="rect">
            <a:avLst/>
          </a:prstGeom>
          <a:ln w="0">
            <a:noFill/>
          </a:ln>
        </p:spPr>
      </p:pic>
      <p:pic>
        <p:nvPicPr>
          <p:cNvPr id="695" name="直接箭头连接符 5" descr=""/>
          <p:cNvPicPr/>
          <p:nvPr/>
        </p:nvPicPr>
        <p:blipFill>
          <a:blip r:embed="rId5"/>
          <a:stretch/>
        </p:blipFill>
        <p:spPr>
          <a:xfrm>
            <a:off x="841320" y="2146320"/>
            <a:ext cx="639720" cy="577800"/>
          </a:xfrm>
          <a:prstGeom prst="rect">
            <a:avLst/>
          </a:prstGeom>
          <a:ln w="0">
            <a:noFill/>
          </a:ln>
        </p:spPr>
      </p:pic>
      <p:pic>
        <p:nvPicPr>
          <p:cNvPr id="696" name="文本框 8" descr=""/>
          <p:cNvPicPr/>
          <p:nvPr/>
        </p:nvPicPr>
        <p:blipFill>
          <a:blip r:embed="rId6"/>
          <a:stretch/>
        </p:blipFill>
        <p:spPr>
          <a:xfrm>
            <a:off x="1852560" y="2023920"/>
            <a:ext cx="5529240" cy="2524320"/>
          </a:xfrm>
          <a:prstGeom prst="rect">
            <a:avLst/>
          </a:prstGeom>
          <a:ln w="0">
            <a:noFill/>
          </a:ln>
        </p:spPr>
      </p:pic>
      <p:pic>
        <p:nvPicPr>
          <p:cNvPr id="697" name="直接箭头连接符 9" descr=""/>
          <p:cNvPicPr/>
          <p:nvPr/>
        </p:nvPicPr>
        <p:blipFill>
          <a:blip r:embed="rId7"/>
          <a:stretch/>
        </p:blipFill>
        <p:spPr>
          <a:xfrm>
            <a:off x="2292480" y="2932200"/>
            <a:ext cx="669960" cy="469800"/>
          </a:xfrm>
          <a:prstGeom prst="rect">
            <a:avLst/>
          </a:prstGeom>
          <a:ln w="0">
            <a:noFill/>
          </a:ln>
        </p:spPr>
      </p:pic>
      <p:pic>
        <p:nvPicPr>
          <p:cNvPr id="698" name="文本框 12" descr=""/>
          <p:cNvPicPr/>
          <p:nvPr/>
        </p:nvPicPr>
        <p:blipFill>
          <a:blip r:embed="rId8"/>
          <a:stretch/>
        </p:blipFill>
        <p:spPr>
          <a:xfrm>
            <a:off x="5857920" y="2023920"/>
            <a:ext cx="3346560" cy="3017880"/>
          </a:xfrm>
          <a:prstGeom prst="rect">
            <a:avLst/>
          </a:prstGeom>
          <a:ln w="0">
            <a:noFill/>
          </a:ln>
        </p:spPr>
      </p:pic>
      <p:pic>
        <p:nvPicPr>
          <p:cNvPr id="699" name="直接箭头连接符 13" descr=""/>
          <p:cNvPicPr/>
          <p:nvPr/>
        </p:nvPicPr>
        <p:blipFill>
          <a:blip r:embed="rId9"/>
          <a:stretch/>
        </p:blipFill>
        <p:spPr>
          <a:xfrm>
            <a:off x="7358040" y="2646360"/>
            <a:ext cx="365040" cy="493560"/>
          </a:xfrm>
          <a:prstGeom prst="rect">
            <a:avLst/>
          </a:prstGeom>
          <a:ln w="0">
            <a:noFill/>
          </a:ln>
        </p:spPr>
      </p:pic>
      <p:pic>
        <p:nvPicPr>
          <p:cNvPr id="700" name="直接箭头连接符 3" descr=""/>
          <p:cNvPicPr/>
          <p:nvPr/>
        </p:nvPicPr>
        <p:blipFill>
          <a:blip r:embed="rId10"/>
          <a:stretch/>
        </p:blipFill>
        <p:spPr>
          <a:xfrm>
            <a:off x="7686720" y="1262160"/>
            <a:ext cx="639720" cy="542880"/>
          </a:xfrm>
          <a:prstGeom prst="rect">
            <a:avLst/>
          </a:prstGeom>
          <a:ln w="0">
            <a:noFill/>
          </a:ln>
        </p:spPr>
      </p:pic>
      <p:sp>
        <p:nvSpPr>
          <p:cNvPr id="701" name="文本框 14"/>
          <p:cNvSpPr/>
          <p:nvPr/>
        </p:nvSpPr>
        <p:spPr>
          <a:xfrm>
            <a:off x="6627600" y="178272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6.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帮助中心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-</a:t>
            </a:r>
            <a:r>
              <a:rPr b="1" sz="1600" spc="-1" strike="noStrike">
                <a:solidFill>
                  <a:srgbClr val="df0024"/>
                </a:solidFill>
                <a:latin typeface="微软雅黑"/>
                <a:ea typeface="微软雅黑"/>
              </a:rPr>
              <a:t>操作提示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文本框 7"/>
          <p:cNvSpPr/>
          <p:nvPr/>
        </p:nvSpPr>
        <p:spPr>
          <a:xfrm>
            <a:off x="196920" y="-4680"/>
            <a:ext cx="41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程管理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-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报告批阅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文本框 1"/>
          <p:cNvSpPr/>
          <p:nvPr/>
        </p:nvSpPr>
        <p:spPr>
          <a:xfrm>
            <a:off x="1120680" y="660240"/>
            <a:ext cx="681372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实习报告批阅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实践教学”导航菜单，进入实践教学功能模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“报告批阅”，查看学生提交的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待批阅的学生姓名，查看实习报告详情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阅实习报告，评分、填写评语，或者退回修改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导出实习报告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00Z</dcterms:created>
  <dc:creator>Administrator</dc:creator>
  <dc:description/>
  <dc:language>en-US</dc:language>
  <cp:lastModifiedBy>Administrator</cp:lastModifiedBy>
  <dcterms:modified xsi:type="dcterms:W3CDTF">2022-05-20T02:12:16Z</dcterms:modified>
  <cp:revision>3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1FC46A7EA804D25A096638ED9716D0A</vt:lpwstr>
  </property>
  <property fmtid="{D5CDD505-2E9C-101B-9397-08002B2CF9AE}" pid="3" name="KSOProductBuildVer">
    <vt:lpwstr>2052-11.1.0.11691</vt:lpwstr>
  </property>
</Properties>
</file>