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3841-E6F6-446E-8965-2C21A3DAC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0F03-2A81-49EA-A09A-0092C6B4EDB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B61DF4-2E79-4EAC-8F1C-978DA93C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4E47B-A6BC-45D8-B3AB-131DAD5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257FFE-0691-4178-A310-BBBA89CA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2E3F96-5296-426D-9DB2-82178937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CC70F-15BD-4CBF-8F58-046E7F41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9C2AB5-6685-4A03-B97E-14D23AC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329C5B-7DB4-4D64-80C3-A639C87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AB7D7-16CD-4AB7-BF5D-E237D24D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2FDDF4-7CC3-4F04-8F6E-1B62B89B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CC82FB-2B85-4AD9-A231-07005C35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0775-D6AB-4E57-B60B-3C13B42B634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813DA9-A80E-47F5-A3D0-1DD0E066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3210E5-0F8A-41A6-8A84-0ED0F881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A0CE9-94DE-44D4-A4A7-FAF729F1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2E012F-5563-42EF-AF45-7D77D461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10770-4249-41B9-99FC-BD05BEE3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406208-2A0B-49B7-A5FC-332B22A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CD4E4F-1998-4C81-BDBC-C6D23FBD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69CC66-CB70-4A5A-B04F-F092F407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9D7FB4-1DF1-4750-8B9E-AAAA7E11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73F61-6411-4A67-91B9-61DCBF2F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9EF6-3586-4FAF-9EB0-BE7EFBC3B8C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D66FC-9958-4DE5-8768-E6512DA3B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CFFA9-1302-40EE-B60D-2DA4630E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4F8F43-BA4A-4B4D-BA9A-26ECA042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3F20B-F38F-46F7-8BEA-073110A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E2492-0B1B-443C-911E-64CB9FAE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25BB5-1C38-4C8A-ACBC-E2602D8A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CE65CA-0666-46A0-8D10-35F055D0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AF91ED-F730-407B-9FA6-7DCFF842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A01039-E947-48D0-8505-30915562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5746BA-1B8B-45D8-874E-927AD04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049C-B6E4-4305-A47D-52A93FC39B0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6AF2DC-FDFE-48A4-A31D-DB237D3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6EAA8F-E00F-4474-B628-6105056E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D562E0-BE73-4B8C-9F2F-CFD77C0B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145CEB-5D9A-49CC-A292-A7A3224D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EACD7C-75B4-4C7E-821E-170619EF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B8C84A-38BF-47D8-AE9B-CFED4F7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A0420-60E0-45C6-93F2-5F121147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82E380-F1AA-44BE-99E4-9AE95D55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9F6649-1739-4FE8-BD8F-6EFBBF06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56B711-48CC-47C4-9DBF-BD8FFF5B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FFE4-AC8F-4270-8DD1-5D1C02F8580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46D6C2-5535-4A6C-A729-52B3051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2EB0BF-2EBD-4DC8-BEC5-94824DCC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FEC2B6-C8C2-44E9-A67D-5CCF97B0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705565-63D9-4AB3-8C5E-C25E6E5F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B79672-3495-4070-A0FD-C80959A5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4E795-12E4-44D6-87FB-B7FCE536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8E9792-868C-43BF-8A20-1116003D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2B3FF4-D273-4B9E-92C2-3ED5E20C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51E3C-95D5-4058-A480-A039D0F4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A118C4-DD27-45B3-9290-17EF05C6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D4C3-DB2C-4CF6-8F0C-F81BC2B971B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A080F1-FA94-4B0D-BF7B-52343E26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EAA462-58E1-4D34-9E73-93EB333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BC0A71-9947-46F6-81D5-AA95C1F1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47A417-D80F-41EB-9C26-A34E2B65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117F92-AAFF-459F-B291-3947171D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B65F53-0F97-489B-9189-A3880EC1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057B62-1C0A-4F5D-BDD4-5605D2F7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17E296-2CC7-4E9F-BD4B-16F9AAB2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3C1DD-D310-48F8-AFEC-8219D4B0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DAEBB4-5DCD-41AD-ADF1-2074E0F8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A4CD9-5573-4BD3-B511-3A011EB2A78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E12C15-EAEC-4CE0-9C9B-450234BB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081807-6BB1-4E84-AB24-FA528587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8A207F-B430-4FCE-9EA4-A92757223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EBDEBE-10DA-4AF1-9AF6-762CCC96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AFDD08-385E-409D-B36F-FB1A6D8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E9592C-70D9-43C0-BCC1-B32F9548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377A54-D06E-40EF-AF1E-FAF1EEB3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9A6BD7-C7D8-40DA-BF00-41EA678D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82948E-B39E-447E-8674-58424A3E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012D-0544-4E44-B648-EF1A7BDCD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55A0-C7F3-4517-A5FD-397EB83DC4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55A7-FC90-4AA3-B5D5-01B819A54E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6BB5-BB7C-486F-BE50-6EBAA4171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3AD1-E9EC-4065-B4AC-E64D71B447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40A9-0EEF-4BA1-849C-F41E6644E6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641B8-1F42-45B4-9573-59FB1EFE13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F5F1C-CEC4-494D-99DB-B389FE9FA7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860F-0142-4CEF-8D36-A67CD154E1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56D14-8621-49B1-A6D3-8A5D91FC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3BD9A-01BD-4D13-9D4C-69A95A77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EBAF-953B-46BC-BBD4-B1959552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3E318-5194-4CF8-BE56-20885B05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8A94A-0B14-4641-BB4A-A2A341C4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D855-359E-4F28-96AE-112B3709D6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49037-5F16-4E84-AD43-9989D92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E6998-013F-49BD-A1B6-E3C5F50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4D2E-54EB-415A-9019-E9BD40DE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B78CF-EDED-488A-9659-A8CED072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16AFC-4517-43D3-BC29-AEE5CB5B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C665-ACC5-4422-AF64-BD8F65D0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E2B33-3E17-4A07-9600-42DD471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E83BC-56EA-4F2D-9B7F-F1670B16D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CD29C-BF80-407A-99F2-BF8622DF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3A151-C755-4754-A0F5-38B95B58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B756F-F7B3-4E38-B5D0-2A2AAD8DD1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B0602D-3463-47E4-825C-D837090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EF3EB-6EA5-44F0-8A7F-3ECD79E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47476-663A-414C-A1E1-7CE56712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04867-955B-4759-9CE0-3A6CCDF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D812F-C97E-4746-868B-831B533E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ABCE9-BF0C-4943-B5BE-339F18A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4F7C5-2B07-459D-8FE0-5072BB7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E41D6-F8F0-4AC1-AF37-5933C3A1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19FBE-BBC6-4CBE-9C51-B113D198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0F6BB-422A-4831-A29A-FE261CC5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B96B-8D49-4B33-9B3E-70C5C6C3A30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D899E-8BB4-4103-A51D-40C3C35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D56ED-C378-468A-9459-7023E373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05D22-13C2-4229-9F94-13DC9585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A0EF3-9668-4F0D-B196-FA116BBB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9B4E0-8E6C-45A9-961E-C4D3C436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133D80-3B2F-4221-B1DE-8B86E9D7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414C4-97E0-49D9-8F2E-2B5435BA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20368-A3F7-48C5-B1F5-E985705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F61600-0E42-494A-8006-8EEEE05A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0D8CA-4FA9-42D8-A452-65DAFAFB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46C8-1ECC-4A73-B4D2-B6DDF66498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FAC4E-1946-47C3-895E-4A6A6252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863C61-8E02-46E7-BF82-F20AD371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45AD7-8051-49AB-80C0-BF1EE009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D9951-C7A5-4D00-ACFD-1C4E6D80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9CCCD-5A94-41A1-B8A4-A8C1E04C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3295CD-5694-48C0-9BE2-3E9A0C63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F2B45-B7A5-42A5-828D-B0623B4E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7408D-D853-47F8-A3D3-1EFAB7E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990E72-374C-485A-846A-D85607F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99F30-4D8F-4630-A6C0-7085A7F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1FE23-C9EF-4C32-9FCB-48C20F110E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C0E15-D3B2-4FB4-B856-4732638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4DF2B-0C2B-480D-9845-E71F86B3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25466-B113-415D-9BCF-C0159458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BA41C3-FCA2-4F5E-9EA6-97D46694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B56F0-21B1-47CC-9F61-97927A4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4EF067-EFD9-4637-A9AE-CCBD6BB9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FACE9D-1762-4062-AB06-9386E53C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112B2-29B4-4AEC-981A-A08D8862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E89C5D-2271-401A-B1A6-E0BF3201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92A50E-ADE3-466B-AACC-A09CCF35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98D8-8B62-4022-B135-1B7A1BE63BB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B0471-1C4C-46AF-BFB1-C40778FA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7315B-447B-492D-9138-FE12DD04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7E4B9-F1F2-4903-BA36-FE07D96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8BD62-FE0C-4CC0-B603-B843882A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9DE0B-4DD4-48B3-B5DE-2BA1AA82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F716B3-A229-488B-B913-8C87D2E1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6E46F-4CD2-4AB9-A57E-A3A11C10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FF2562-D8DE-41F9-8A2D-D8C378F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1AD16-933D-48B9-8B1E-AF4D583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1338D-8803-418B-BE33-3FEB361E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756D-75C3-4D39-98EF-EA4A84A9C7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075A0-9C8D-4FF1-B24F-482B165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CD5C3-96A1-4442-8640-C311B327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D411B8-5894-4E2D-A22B-F25F0BC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D4313-F9E7-409A-B536-7C574629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291B48-1CAF-48BE-A649-0ABD00CF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98E1FC-E0C7-4460-A7DF-4176DC12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54B61-29A8-4D77-A822-3C73F010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946421-2BB9-4EFA-8087-6CABBD6C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6122F5-58C4-48AC-97BC-34DBB98B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2A2C7-DF49-4288-B474-67399A05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07320" indent="-2900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517920" indent="-2703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454640" indent="-32338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861440" indent="-32338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6520" y="4765680"/>
            <a:ext cx="257040" cy="27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FA2A-6E46-486E-A560-E46551BFA2AA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CB2-8B7E-4D94-82DB-3A04F81CA691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6E16-0B60-4E10-BCD0-6CE1A53D72E4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B05C-BD2C-44E8-A3EC-881D98264EAF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8A48-C194-4DC9-AF69-58B98088366A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1ADB-AC03-4F85-BDB1-09BD2B328117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120" descr="image.pn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368280"/>
          </a:xfrm>
          <a:prstGeom prst="rect">
            <a:avLst/>
          </a:prstGeom>
          <a:ln w="0">
            <a:noFill/>
          </a:ln>
        </p:spPr>
      </p:pic>
      <p:pic>
        <p:nvPicPr>
          <p:cNvPr id="40" name="图片 5121" descr="image.png"/>
          <p:cNvPicPr/>
          <p:nvPr/>
        </p:nvPicPr>
        <p:blipFill>
          <a:blip r:embed="rId3"/>
          <a:stretch/>
        </p:blipFill>
        <p:spPr>
          <a:xfrm>
            <a:off x="0" y="4879800"/>
            <a:ext cx="9144000" cy="266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314760" y="4627440"/>
            <a:ext cx="235080" cy="24768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88888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2089-A9A0-4333-98AE-192054579A13}" type="slidenum">
              <a:rPr b="0" sz="1200" spc="-1" strike="noStrike">
                <a:solidFill>
                  <a:srgbClr val="888888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50040" indent="-2411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925000" indent="-224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703680" indent="-2688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042080" indent="-26888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042080" indent="-268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B0C8-15FE-401C-9783-F6FFE15EEFA4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13A-3161-4F4A-96F6-3122A9B91521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C82C-2926-4BD6-8F3B-1BC81F34F26B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1F2A-F677-49A1-8EFB-1F3027C393D4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8F9-E1C9-4C99-B086-E9A3E80C5FC4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631-9AE2-4D13-B7B9-871DF5CBC4C9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A6C8-6555-4348-A4A7-98456C529653}" type="slidenum">
              <a:rPr b="1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任意多边形 7168"/>
          <p:cNvSpPr/>
          <p:nvPr/>
        </p:nvSpPr>
        <p:spPr>
          <a:xfrm>
            <a:off x="-28440" y="4264200"/>
            <a:ext cx="9200880" cy="1263600"/>
          </a:xfrm>
          <a:custGeom>
            <a:avLst/>
            <a:gdLst>
              <a:gd name="textAreaLeft" fmla="*/ 0 w 9200880"/>
              <a:gd name="textAreaRight" fmla="*/ 9201240 w 920088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图片 7169" descr="image.png"/>
          <p:cNvPicPr/>
          <p:nvPr/>
        </p:nvPicPr>
        <p:blipFill>
          <a:blip r:embed="rId1"/>
          <a:stretch/>
        </p:blipFill>
        <p:spPr>
          <a:xfrm>
            <a:off x="0" y="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574" name="矩形 7170"/>
          <p:cNvSpPr/>
          <p:nvPr/>
        </p:nvSpPr>
        <p:spPr>
          <a:xfrm>
            <a:off x="-11160" y="-28440"/>
            <a:ext cx="9201240" cy="52005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任意多边形 7171"/>
          <p:cNvSpPr/>
          <p:nvPr/>
        </p:nvSpPr>
        <p:spPr>
          <a:xfrm>
            <a:off x="0" y="4264200"/>
            <a:ext cx="9201240" cy="1263600"/>
          </a:xfrm>
          <a:custGeom>
            <a:avLst/>
            <a:gdLst>
              <a:gd name="textAreaLeft" fmla="*/ 0 w 9201240"/>
              <a:gd name="textAreaRight" fmla="*/ 9201600 w 92012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21600" h="21600">
                <a:moveTo>
                  <a:pt x="0" y="8458"/>
                </a:moveTo>
                <a:lnTo>
                  <a:pt x="10800" y="0"/>
                </a:lnTo>
                <a:lnTo>
                  <a:pt x="21600" y="8458"/>
                </a:lnTo>
                <a:lnTo>
                  <a:pt x="21600" y="21600"/>
                </a:lnTo>
                <a:lnTo>
                  <a:pt x="0" y="21600"/>
                </a:lnTo>
                <a:lnTo>
                  <a:pt x="0" y="84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7172"/>
          <p:cNvSpPr/>
          <p:nvPr/>
        </p:nvSpPr>
        <p:spPr>
          <a:xfrm>
            <a:off x="3849840" y="4827600"/>
            <a:ext cx="166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www.xybsyw.com</a:t>
            </a:r>
            <a:endParaRPr b="1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图片 7173" descr="未标题-2-01.png"/>
          <p:cNvPicPr/>
          <p:nvPr/>
        </p:nvPicPr>
        <p:blipFill>
          <a:blip r:embed="rId2"/>
          <a:srcRect l="11931" t="5841" r="17577" b="54250"/>
          <a:stretch/>
        </p:blipFill>
        <p:spPr>
          <a:xfrm>
            <a:off x="806400" y="317520"/>
            <a:ext cx="7556400" cy="4098960"/>
          </a:xfrm>
          <a:prstGeom prst="rect">
            <a:avLst/>
          </a:prstGeom>
          <a:ln w="0">
            <a:noFill/>
          </a:ln>
        </p:spPr>
      </p:pic>
      <p:sp>
        <p:nvSpPr>
          <p:cNvPr id="578" name="矩形 7174"/>
          <p:cNvSpPr/>
          <p:nvPr/>
        </p:nvSpPr>
        <p:spPr>
          <a:xfrm>
            <a:off x="2305080" y="1898640"/>
            <a:ext cx="4219560" cy="581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 生 端 操 作 指 南</a:t>
            </a:r>
            <a:r>
              <a:rPr b="1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图片 7175" descr="xybsyw.logo--filtered.png"/>
          <p:cNvPicPr/>
          <p:nvPr/>
        </p:nvPicPr>
        <p:blipFill>
          <a:blip r:embed="rId3"/>
          <a:srcRect l="25" t="0" r="69164" b="0"/>
          <a:stretch/>
        </p:blipFill>
        <p:spPr>
          <a:xfrm>
            <a:off x="4365720" y="4416480"/>
            <a:ext cx="439560" cy="4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59407"/>
          <p:cNvSpPr/>
          <p:nvPr/>
        </p:nvSpPr>
        <p:spPr>
          <a:xfrm>
            <a:off x="12600" y="5040"/>
            <a:ext cx="38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习评价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实习过程、老师的评价等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6"/>
          <p:cNvSpPr/>
          <p:nvPr/>
        </p:nvSpPr>
        <p:spPr>
          <a:xfrm>
            <a:off x="142920" y="343080"/>
            <a:ext cx="838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实习评价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成长→实习任务→实习评价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图片 5" descr=""/>
          <p:cNvPicPr/>
          <p:nvPr/>
        </p:nvPicPr>
        <p:blipFill>
          <a:blip r:embed="rId1"/>
          <a:stretch/>
        </p:blipFill>
        <p:spPr>
          <a:xfrm>
            <a:off x="4695840" y="1050840"/>
            <a:ext cx="1908000" cy="3395880"/>
          </a:xfrm>
          <a:prstGeom prst="rect">
            <a:avLst/>
          </a:prstGeom>
          <a:ln w="0">
            <a:noFill/>
          </a:ln>
        </p:spPr>
      </p:pic>
      <p:pic>
        <p:nvPicPr>
          <p:cNvPr id="637" name="图片 2" descr=""/>
          <p:cNvPicPr/>
          <p:nvPr/>
        </p:nvPicPr>
        <p:blipFill>
          <a:blip r:embed="rId2"/>
          <a:stretch/>
        </p:blipFill>
        <p:spPr>
          <a:xfrm>
            <a:off x="1962000" y="906480"/>
            <a:ext cx="16606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图片 12" descr=""/>
          <p:cNvPicPr/>
          <p:nvPr/>
        </p:nvPicPr>
        <p:blipFill>
          <a:blip r:embed="rId1"/>
          <a:stretch/>
        </p:blipFill>
        <p:spPr>
          <a:xfrm>
            <a:off x="6597720" y="592200"/>
            <a:ext cx="1868400" cy="400212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11"/>
          <p:cNvSpPr/>
          <p:nvPr/>
        </p:nvSpPr>
        <p:spPr>
          <a:xfrm>
            <a:off x="345960" y="4481640"/>
            <a:ext cx="202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实习模块客服中心入口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11"/>
          <p:cNvSpPr/>
          <p:nvPr/>
        </p:nvSpPr>
        <p:spPr>
          <a:xfrm>
            <a:off x="3395520" y="4551480"/>
            <a:ext cx="202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我的</a:t>
            </a:r>
            <a:r>
              <a:rPr b="0" lang="en-US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客服与反馈入口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11"/>
          <p:cNvSpPr/>
          <p:nvPr/>
        </p:nvSpPr>
        <p:spPr>
          <a:xfrm>
            <a:off x="7170840" y="4551480"/>
            <a:ext cx="95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客服中心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直接箭头连接符 7" descr=""/>
          <p:cNvPicPr/>
          <p:nvPr/>
        </p:nvPicPr>
        <p:blipFill>
          <a:blip r:embed="rId2"/>
          <a:stretch/>
        </p:blipFill>
        <p:spPr>
          <a:xfrm>
            <a:off x="6188040" y="1536840"/>
            <a:ext cx="646200" cy="468000"/>
          </a:xfrm>
          <a:prstGeom prst="rect">
            <a:avLst/>
          </a:prstGeom>
          <a:ln w="0">
            <a:noFill/>
          </a:ln>
        </p:spPr>
      </p:pic>
      <p:sp>
        <p:nvSpPr>
          <p:cNvPr id="643" name="文本框 9"/>
          <p:cNvSpPr/>
          <p:nvPr/>
        </p:nvSpPr>
        <p:spPr>
          <a:xfrm>
            <a:off x="5707080" y="110808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快捷入口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直接箭头连接符 8" descr=""/>
          <p:cNvPicPr/>
          <p:nvPr/>
        </p:nvPicPr>
        <p:blipFill>
          <a:blip r:embed="rId3"/>
          <a:stretch/>
        </p:blipFill>
        <p:spPr>
          <a:xfrm>
            <a:off x="6181560" y="1981080"/>
            <a:ext cx="652680" cy="1262160"/>
          </a:xfrm>
          <a:prstGeom prst="rect">
            <a:avLst/>
          </a:prstGeom>
          <a:ln w="0">
            <a:noFill/>
          </a:ln>
        </p:spPr>
      </p:pic>
      <p:sp>
        <p:nvSpPr>
          <p:cNvPr id="645" name="文本框 10"/>
          <p:cNvSpPr/>
          <p:nvPr/>
        </p:nvSpPr>
        <p:spPr>
          <a:xfrm>
            <a:off x="5762520" y="2793960"/>
            <a:ext cx="51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常见问题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线帮助中心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4"/>
          <a:stretch/>
        </p:blipFill>
        <p:spPr>
          <a:xfrm>
            <a:off x="527040" y="592200"/>
            <a:ext cx="1662120" cy="3736800"/>
          </a:xfrm>
          <a:prstGeom prst="rect">
            <a:avLst/>
          </a:prstGeom>
          <a:ln w="0">
            <a:noFill/>
          </a:ln>
        </p:spPr>
      </p:pic>
      <p:pic>
        <p:nvPicPr>
          <p:cNvPr id="648" name="直接箭头连接符 11" descr=""/>
          <p:cNvPicPr/>
          <p:nvPr/>
        </p:nvPicPr>
        <p:blipFill>
          <a:blip r:embed="rId5"/>
          <a:stretch/>
        </p:blipFill>
        <p:spPr>
          <a:xfrm>
            <a:off x="1871640" y="1536840"/>
            <a:ext cx="828720" cy="693720"/>
          </a:xfrm>
          <a:prstGeom prst="rect">
            <a:avLst/>
          </a:prstGeom>
          <a:ln w="0">
            <a:noFill/>
          </a:ln>
        </p:spPr>
      </p:pic>
      <p:pic>
        <p:nvPicPr>
          <p:cNvPr id="649" name="图片 13" descr=""/>
          <p:cNvPicPr/>
          <p:nvPr/>
        </p:nvPicPr>
        <p:blipFill>
          <a:blip r:embed="rId6"/>
          <a:stretch/>
        </p:blipFill>
        <p:spPr>
          <a:xfrm>
            <a:off x="3402000" y="592200"/>
            <a:ext cx="1854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8196"/>
          <p:cNvSpPr/>
          <p:nvPr/>
        </p:nvSpPr>
        <p:spPr>
          <a:xfrm>
            <a:off x="3165480" y="2536920"/>
            <a:ext cx="3643200" cy="40464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8197"/>
          <p:cNvSpPr/>
          <p:nvPr/>
        </p:nvSpPr>
        <p:spPr>
          <a:xfrm>
            <a:off x="3743280" y="260280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8200"/>
          <p:cNvSpPr/>
          <p:nvPr/>
        </p:nvSpPr>
        <p:spPr>
          <a:xfrm>
            <a:off x="527040" y="229716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任意多边形 8198"/>
          <p:cNvSpPr/>
          <p:nvPr/>
        </p:nvSpPr>
        <p:spPr>
          <a:xfrm>
            <a:off x="3165480" y="1684440"/>
            <a:ext cx="3645000" cy="404640"/>
          </a:xfrm>
          <a:prstGeom prst="pie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任意多边形 8196"/>
          <p:cNvSpPr/>
          <p:nvPr/>
        </p:nvSpPr>
        <p:spPr>
          <a:xfrm>
            <a:off x="3159000" y="3375000"/>
            <a:ext cx="3643560" cy="40500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8197"/>
          <p:cNvSpPr/>
          <p:nvPr/>
        </p:nvSpPr>
        <p:spPr>
          <a:xfrm>
            <a:off x="3817800" y="34398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3"/>
          <p:cNvSpPr/>
          <p:nvPr/>
        </p:nvSpPr>
        <p:spPr>
          <a:xfrm>
            <a:off x="3267000" y="1627200"/>
            <a:ext cx="41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实习报告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文本框 4"/>
          <p:cNvSpPr/>
          <p:nvPr/>
        </p:nvSpPr>
        <p:spPr>
          <a:xfrm>
            <a:off x="166680" y="0"/>
            <a:ext cx="40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操作指南</a:t>
            </a:r>
            <a:r>
              <a:rPr b="1" lang="en-US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PC</a:t>
            </a:r>
            <a:r>
              <a:rPr b="1" lang="zh-CN" sz="18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网页端独有功能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文本框 1" descr=""/>
          <p:cNvPicPr/>
          <p:nvPr/>
        </p:nvPicPr>
        <p:blipFill>
          <a:blip r:embed="rId1"/>
          <a:stretch/>
        </p:blipFill>
        <p:spPr>
          <a:xfrm>
            <a:off x="1584360" y="3060720"/>
            <a:ext cx="567036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2" descr=""/>
          <p:cNvPicPr/>
          <p:nvPr/>
        </p:nvPicPr>
        <p:blipFill>
          <a:blip r:embed="rId1"/>
          <a:stretch/>
        </p:blipFill>
        <p:spPr>
          <a:xfrm>
            <a:off x="628560" y="2790720"/>
            <a:ext cx="7886880" cy="2160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60" name="图片 1" descr=""/>
          <p:cNvPicPr/>
          <p:nvPr/>
        </p:nvPicPr>
        <p:blipFill>
          <a:blip r:embed="rId2"/>
          <a:stretch/>
        </p:blipFill>
        <p:spPr>
          <a:xfrm>
            <a:off x="628560" y="941400"/>
            <a:ext cx="7770960" cy="215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61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PC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操作指南</a:t>
            </a: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提交实习报告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文本框 14"/>
          <p:cNvSpPr/>
          <p:nvPr/>
        </p:nvSpPr>
        <p:spPr>
          <a:xfrm>
            <a:off x="1555920" y="2185920"/>
            <a:ext cx="1104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实习报告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文本框 12"/>
          <p:cNvSpPr/>
          <p:nvPr/>
        </p:nvSpPr>
        <p:spPr>
          <a:xfrm>
            <a:off x="6713640" y="2860560"/>
            <a:ext cx="1466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下载报告模板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文本框 18"/>
          <p:cNvSpPr/>
          <p:nvPr/>
        </p:nvSpPr>
        <p:spPr>
          <a:xfrm>
            <a:off x="5305320" y="4467240"/>
            <a:ext cx="2343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模板内写完 报告</a:t>
            </a:r>
            <a:r>
              <a:rPr b="1" lang="en-US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--</a:t>
            </a:r>
            <a:r>
              <a:rPr b="1" lang="zh-CN" sz="1400" spc="-1" strike="noStrike">
                <a:solidFill>
                  <a:srgbClr val="df0024"/>
                </a:solidFill>
                <a:latin typeface="华文仿宋"/>
                <a:ea typeface="华文仿宋"/>
              </a:rPr>
              <a:t>上传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5" name="直接箭头连接符 16" descr=""/>
          <p:cNvPicPr/>
          <p:nvPr/>
        </p:nvPicPr>
        <p:blipFill>
          <a:blip r:embed="rId3"/>
          <a:stretch/>
        </p:blipFill>
        <p:spPr>
          <a:xfrm>
            <a:off x="7547040" y="2273400"/>
            <a:ext cx="573120" cy="695160"/>
          </a:xfrm>
          <a:prstGeom prst="rect">
            <a:avLst/>
          </a:prstGeom>
          <a:ln w="0">
            <a:noFill/>
          </a:ln>
        </p:spPr>
      </p:pic>
      <p:pic>
        <p:nvPicPr>
          <p:cNvPr id="666" name="直接箭头连接符 3" descr=""/>
          <p:cNvPicPr/>
          <p:nvPr/>
        </p:nvPicPr>
        <p:blipFill>
          <a:blip r:embed="rId4"/>
          <a:stretch/>
        </p:blipFill>
        <p:spPr>
          <a:xfrm>
            <a:off x="1090440" y="2584440"/>
            <a:ext cx="689040" cy="596880"/>
          </a:xfrm>
          <a:prstGeom prst="rect">
            <a:avLst/>
          </a:prstGeom>
          <a:ln w="0">
            <a:noFill/>
          </a:ln>
        </p:spPr>
      </p:pic>
      <p:pic>
        <p:nvPicPr>
          <p:cNvPr id="667" name="直接箭头连接符 4" descr=""/>
          <p:cNvPicPr/>
          <p:nvPr/>
        </p:nvPicPr>
        <p:blipFill>
          <a:blip r:embed="rId5"/>
          <a:stretch/>
        </p:blipFill>
        <p:spPr>
          <a:xfrm>
            <a:off x="5467320" y="414504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5"/>
          <p:cNvSpPr/>
          <p:nvPr/>
        </p:nvSpPr>
        <p:spPr>
          <a:xfrm>
            <a:off x="628560" y="343080"/>
            <a:ext cx="8390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交实习报告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要实习→实习报告→下载报告模板→上传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75776"/>
          <p:cNvSpPr/>
          <p:nvPr/>
        </p:nvSpPr>
        <p:spPr>
          <a:xfrm>
            <a:off x="0" y="-11160"/>
            <a:ext cx="9144000" cy="5162760"/>
          </a:xfrm>
          <a:prstGeom prst="rect">
            <a:avLst/>
          </a:prstGeom>
          <a:solidFill>
            <a:srgbClr val="df00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                 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75777"/>
          <p:cNvSpPr/>
          <p:nvPr/>
        </p:nvSpPr>
        <p:spPr>
          <a:xfrm>
            <a:off x="6237360" y="2212920"/>
            <a:ext cx="101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谢谢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组合 75778"/>
          <p:cNvGrpSpPr/>
          <p:nvPr/>
        </p:nvGrpSpPr>
        <p:grpSpPr>
          <a:xfrm>
            <a:off x="216000" y="358920"/>
            <a:ext cx="6562800" cy="4422600"/>
            <a:chOff x="216000" y="358920"/>
            <a:chExt cx="6562800" cy="4422600"/>
          </a:xfrm>
        </p:grpSpPr>
        <p:sp>
          <p:nvSpPr>
            <p:cNvPr id="672" name="任意多边形 75779"/>
            <p:cNvSpPr/>
            <p:nvPr/>
          </p:nvSpPr>
          <p:spPr>
            <a:xfrm>
              <a:off x="216000" y="358920"/>
              <a:ext cx="6562800" cy="4422600"/>
            </a:xfrm>
            <a:custGeom>
              <a:avLst/>
              <a:gdLst>
                <a:gd name="textAreaLeft" fmla="*/ 0 w 6562800"/>
                <a:gd name="textAreaRight" fmla="*/ 6563160 w 6562800"/>
                <a:gd name="textAreaTop" fmla="*/ 0 h 4422600"/>
                <a:gd name="textAreaBottom" fmla="*/ 4422600 h 44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14644"/>
                  </a:moveTo>
                  <a:cubicBezTo>
                    <a:pt x="21594" y="17103"/>
                    <a:pt x="21589" y="19141"/>
                    <a:pt x="21583" y="21600"/>
                  </a:cubicBezTo>
                  <a:lnTo>
                    <a:pt x="0" y="21600"/>
                  </a:lnTo>
                  <a:lnTo>
                    <a:pt x="0" y="0"/>
                  </a:lnTo>
                  <a:lnTo>
                    <a:pt x="21583" y="0"/>
                  </a:lnTo>
                  <a:cubicBezTo>
                    <a:pt x="21575" y="2217"/>
                    <a:pt x="21547" y="6767"/>
                    <a:pt x="21547" y="6767"/>
                  </a:cubicBez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75780"/>
            <p:cNvSpPr/>
            <p:nvPr/>
          </p:nvSpPr>
          <p:spPr>
            <a:xfrm>
              <a:off x="216000" y="2432160"/>
              <a:ext cx="656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1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4" name="文本框 2"/>
          <p:cNvSpPr/>
          <p:nvPr/>
        </p:nvSpPr>
        <p:spPr>
          <a:xfrm>
            <a:off x="1332000" y="1087560"/>
            <a:ext cx="478476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台有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时自助服务：机器人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帮助中心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台值班服务（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:30-22:00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0579-82722068    17757972178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:3001048075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生微信服务群：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图片 1" descr=""/>
          <p:cNvPicPr/>
          <p:nvPr/>
        </p:nvPicPr>
        <p:blipFill>
          <a:blip r:embed="rId1"/>
          <a:stretch/>
        </p:blipFill>
        <p:spPr>
          <a:xfrm>
            <a:off x="3087720" y="252720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任意多边形 8196"/>
          <p:cNvSpPr/>
          <p:nvPr/>
        </p:nvSpPr>
        <p:spPr>
          <a:xfrm>
            <a:off x="3165480" y="1959120"/>
            <a:ext cx="3643200" cy="40464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8197"/>
          <p:cNvSpPr/>
          <p:nvPr/>
        </p:nvSpPr>
        <p:spPr>
          <a:xfrm>
            <a:off x="3743280" y="202464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矩形 8200"/>
          <p:cNvSpPr/>
          <p:nvPr/>
        </p:nvSpPr>
        <p:spPr>
          <a:xfrm>
            <a:off x="1019160" y="196164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任意多边形 8198"/>
          <p:cNvSpPr/>
          <p:nvPr/>
        </p:nvSpPr>
        <p:spPr>
          <a:xfrm>
            <a:off x="3165480" y="1106640"/>
            <a:ext cx="3645000" cy="4046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任意多边形 8196"/>
          <p:cNvSpPr/>
          <p:nvPr/>
        </p:nvSpPr>
        <p:spPr>
          <a:xfrm>
            <a:off x="3159000" y="2797200"/>
            <a:ext cx="3643560" cy="40464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矩形 8197"/>
          <p:cNvSpPr/>
          <p:nvPr/>
        </p:nvSpPr>
        <p:spPr>
          <a:xfrm>
            <a:off x="3817800" y="28620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3"/>
          <p:cNvSpPr/>
          <p:nvPr/>
        </p:nvSpPr>
        <p:spPr>
          <a:xfrm>
            <a:off x="1012680" y="403200"/>
            <a:ext cx="711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式：扫描“校友邦”公众号二维码，点击实习成长→实习任务</a:t>
            </a: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报名，可快速进入校友邦小程序。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图片 1" descr=""/>
          <p:cNvPicPr/>
          <p:nvPr/>
        </p:nvPicPr>
        <p:blipFill>
          <a:blip r:embed="rId1"/>
          <a:stretch/>
        </p:blipFill>
        <p:spPr>
          <a:xfrm>
            <a:off x="2306520" y="2050920"/>
            <a:ext cx="2229120" cy="223056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2" descr=""/>
          <p:cNvPicPr/>
          <p:nvPr/>
        </p:nvPicPr>
        <p:blipFill>
          <a:blip r:embed="rId2"/>
          <a:stretch/>
        </p:blipFill>
        <p:spPr>
          <a:xfrm>
            <a:off x="4619520" y="2068560"/>
            <a:ext cx="29098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文本框 3"/>
          <p:cNvSpPr/>
          <p:nvPr/>
        </p:nvSpPr>
        <p:spPr>
          <a:xfrm>
            <a:off x="1093680" y="719280"/>
            <a:ext cx="773604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f0024"/>
                </a:solidFill>
                <a:latin typeface="微软雅黑"/>
                <a:ea typeface="微软雅黑"/>
              </a:rPr>
              <a:t>电脑端登录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浏览器中打开</a:t>
            </a:r>
            <a:r>
              <a:rPr b="0" lang="zh-CN" sz="1800" spc="-1" strike="noStrike">
                <a:solidFill>
                  <a:srgbClr val="0092bc"/>
                </a:solidFill>
                <a:latin typeface="微软雅黑"/>
                <a:ea typeface="微软雅黑"/>
              </a:rPr>
              <a:t>www.xybsyw.com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右上角“学生登录”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输入账号和密码直接登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扫码登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使用小程序扫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文鼎中楷体"/>
                <a:ea typeface="文鼎中楷体"/>
              </a:rPr>
              <a:t>说明：除实习报告外，其他均可在小程序完成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脑端登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任意多边形 8196"/>
          <p:cNvSpPr/>
          <p:nvPr/>
        </p:nvSpPr>
        <p:spPr>
          <a:xfrm>
            <a:off x="2987640" y="2225520"/>
            <a:ext cx="3643200" cy="405000"/>
          </a:xfrm>
          <a:custGeom>
            <a:avLst/>
            <a:gdLst>
              <a:gd name="textAreaLeft" fmla="*/ 0 w 3643200"/>
              <a:gd name="textAreaRight" fmla="*/ 3643560 w 364320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矩形 8197"/>
          <p:cNvSpPr/>
          <p:nvPr/>
        </p:nvSpPr>
        <p:spPr>
          <a:xfrm>
            <a:off x="3565440" y="2291400"/>
            <a:ext cx="222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程序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矩形 8200"/>
          <p:cNvSpPr/>
          <p:nvPr/>
        </p:nvSpPr>
        <p:spPr>
          <a:xfrm>
            <a:off x="971640" y="2228040"/>
            <a:ext cx="185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  录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任意多边形 8198"/>
          <p:cNvSpPr/>
          <p:nvPr/>
        </p:nvSpPr>
        <p:spPr>
          <a:xfrm>
            <a:off x="2987640" y="1373040"/>
            <a:ext cx="3645000" cy="405000"/>
          </a:xfrm>
          <a:prstGeom prst="pie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录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任意多边形 8196"/>
          <p:cNvSpPr/>
          <p:nvPr/>
        </p:nvSpPr>
        <p:spPr>
          <a:xfrm>
            <a:off x="2981160" y="3063960"/>
            <a:ext cx="3643560" cy="404640"/>
          </a:xfrm>
          <a:custGeom>
            <a:avLst/>
            <a:gdLst>
              <a:gd name="textAreaLeft" fmla="*/ 0 w 3643560"/>
              <a:gd name="textAreaRight" fmla="*/ 3643920 w 36435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745" y="7538"/>
                </a:moveTo>
                <a:lnTo>
                  <a:pt x="745" y="21600"/>
                </a:lnTo>
                <a:lnTo>
                  <a:pt x="0" y="21600"/>
                </a:lnTo>
                <a:lnTo>
                  <a:pt x="0" y="21581"/>
                </a:lnTo>
                <a:lnTo>
                  <a:pt x="745" y="7538"/>
                </a:lnTo>
                <a:close/>
                <a:moveTo>
                  <a:pt x="2731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2731" y="21600"/>
                </a:lnTo>
                <a:lnTo>
                  <a:pt x="2731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8197"/>
          <p:cNvSpPr/>
          <p:nvPr/>
        </p:nvSpPr>
        <p:spPr>
          <a:xfrm>
            <a:off x="3639960" y="312876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C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操作指南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文本框 3"/>
          <p:cNvSpPr/>
          <p:nvPr/>
        </p:nvSpPr>
        <p:spPr>
          <a:xfrm>
            <a:off x="2511360" y="887400"/>
            <a:ext cx="412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册认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查看实习任务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交日志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评价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帮助中心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4"/>
          <p:cNvSpPr/>
          <p:nvPr/>
        </p:nvSpPr>
        <p:spPr>
          <a:xfrm>
            <a:off x="289080" y="-302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步骤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7" descr=""/>
          <p:cNvPicPr/>
          <p:nvPr/>
        </p:nvPicPr>
        <p:blipFill>
          <a:blip r:embed="rId1"/>
          <a:stretch/>
        </p:blipFill>
        <p:spPr>
          <a:xfrm>
            <a:off x="6689880" y="1328760"/>
            <a:ext cx="1544400" cy="341784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1" descr=""/>
          <p:cNvPicPr/>
          <p:nvPr/>
        </p:nvPicPr>
        <p:blipFill>
          <a:blip r:embed="rId2"/>
          <a:stretch/>
        </p:blipFill>
        <p:spPr>
          <a:xfrm>
            <a:off x="2727360" y="1328760"/>
            <a:ext cx="1569960" cy="343692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3" descr=""/>
          <p:cNvPicPr/>
          <p:nvPr/>
        </p:nvPicPr>
        <p:blipFill>
          <a:blip r:embed="rId3"/>
          <a:stretch/>
        </p:blipFill>
        <p:spPr>
          <a:xfrm>
            <a:off x="836640" y="1328760"/>
            <a:ext cx="1544760" cy="34369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5" descr=""/>
          <p:cNvPicPr/>
          <p:nvPr/>
        </p:nvPicPr>
        <p:blipFill>
          <a:blip r:embed="rId4"/>
          <a:stretch/>
        </p:blipFill>
        <p:spPr>
          <a:xfrm>
            <a:off x="4707000" y="1311120"/>
            <a:ext cx="1476360" cy="3436920"/>
          </a:xfrm>
          <a:prstGeom prst="rect">
            <a:avLst/>
          </a:prstGeom>
          <a:ln w="0">
            <a:noFill/>
          </a:ln>
        </p:spPr>
      </p:pic>
      <p:sp>
        <p:nvSpPr>
          <p:cNvPr id="604" name="矩形 59407"/>
          <p:cNvSpPr/>
          <p:nvPr/>
        </p:nvSpPr>
        <p:spPr>
          <a:xfrm>
            <a:off x="150840" y="-5544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文本框 6"/>
          <p:cNvSpPr/>
          <p:nvPr/>
        </p:nvSpPr>
        <p:spPr>
          <a:xfrm>
            <a:off x="150840" y="282600"/>
            <a:ext cx="73771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注册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→立即登录→微信登录或校友邦账号登录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   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认证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的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籍认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录入学籍信息“立即认证”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4"/>
          <p:cNvSpPr/>
          <p:nvPr/>
        </p:nvSpPr>
        <p:spPr>
          <a:xfrm>
            <a:off x="289080" y="-3024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册认证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直接箭头连接符 9" descr=""/>
          <p:cNvPicPr/>
          <p:nvPr/>
        </p:nvPicPr>
        <p:blipFill>
          <a:blip r:embed="rId5"/>
          <a:stretch/>
        </p:blipFill>
        <p:spPr>
          <a:xfrm>
            <a:off x="811080" y="1579680"/>
            <a:ext cx="865440" cy="792000"/>
          </a:xfrm>
          <a:prstGeom prst="rect">
            <a:avLst/>
          </a:prstGeom>
          <a:ln w="0">
            <a:noFill/>
          </a:ln>
        </p:spPr>
      </p:pic>
      <p:sp>
        <p:nvSpPr>
          <p:cNvPr id="608" name="框架 6"/>
          <p:cNvSpPr/>
          <p:nvPr/>
        </p:nvSpPr>
        <p:spPr>
          <a:xfrm>
            <a:off x="4753080" y="3832200"/>
            <a:ext cx="1403280" cy="293760"/>
          </a:xfrm>
          <a:custGeom>
            <a:avLst/>
            <a:gdLst>
              <a:gd name="textAreaLeft" fmla="*/ 36720 w 1403280"/>
              <a:gd name="textAreaRight" fmla="*/ 1366560 w 1403280"/>
              <a:gd name="textAreaTop" fmla="*/ 36720 h 293760"/>
              <a:gd name="textAreaBottom" fmla="*/ 257040 h 293760"/>
            </a:gdLst>
            <a:ahLst/>
            <a:rect l="textAreaLeft" t="textAreaTop" r="textAreaRight" b="textAreaBottom"/>
            <a:pathLst>
              <a:path w="1404620" h="294005">
                <a:moveTo>
                  <a:pt x="0" y="0"/>
                </a:moveTo>
                <a:lnTo>
                  <a:pt x="1404620" y="0"/>
                </a:lnTo>
                <a:lnTo>
                  <a:pt x="1404620" y="294005"/>
                </a:lnTo>
                <a:lnTo>
                  <a:pt x="0" y="294005"/>
                </a:lnTo>
                <a:close/>
                <a:moveTo>
                  <a:pt x="36751" y="36751"/>
                </a:moveTo>
                <a:lnTo>
                  <a:pt x="36751" y="257254"/>
                </a:lnTo>
                <a:lnTo>
                  <a:pt x="1367869" y="257254"/>
                </a:lnTo>
                <a:lnTo>
                  <a:pt x="1367869" y="36751"/>
                </a:lnTo>
                <a:close/>
              </a:path>
            </a:pathLst>
          </a:custGeom>
          <a:solidFill>
            <a:srgbClr val="df0024"/>
          </a:solidFill>
          <a:ln w="12600">
            <a:solidFill>
              <a:srgbClr val="a400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4" descr=""/>
          <p:cNvPicPr/>
          <p:nvPr/>
        </p:nvPicPr>
        <p:blipFill>
          <a:blip r:embed="rId1"/>
          <a:stretch/>
        </p:blipFill>
        <p:spPr>
          <a:xfrm>
            <a:off x="6581880" y="1000080"/>
            <a:ext cx="2081160" cy="3801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8" descr=""/>
          <p:cNvPicPr/>
          <p:nvPr/>
        </p:nvPicPr>
        <p:blipFill>
          <a:blip r:embed="rId2"/>
          <a:stretch/>
        </p:blipFill>
        <p:spPr>
          <a:xfrm>
            <a:off x="3492360" y="1000080"/>
            <a:ext cx="2003400" cy="380196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6" descr=""/>
          <p:cNvPicPr/>
          <p:nvPr/>
        </p:nvPicPr>
        <p:blipFill>
          <a:blip r:embed="rId3"/>
          <a:stretch/>
        </p:blipFill>
        <p:spPr>
          <a:xfrm>
            <a:off x="836640" y="1041480"/>
            <a:ext cx="1747800" cy="3760560"/>
          </a:xfrm>
          <a:prstGeom prst="rect">
            <a:avLst/>
          </a:prstGeom>
          <a:ln w="0">
            <a:noFill/>
          </a:ln>
        </p:spPr>
      </p:pic>
      <p:sp>
        <p:nvSpPr>
          <p:cNvPr id="612" name="矩形 59407"/>
          <p:cNvSpPr/>
          <p:nvPr/>
        </p:nvSpPr>
        <p:spPr>
          <a:xfrm>
            <a:off x="12600" y="-936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看实习任务报名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3"/>
          <p:cNvSpPr/>
          <p:nvPr/>
        </p:nvSpPr>
        <p:spPr>
          <a:xfrm>
            <a:off x="163440" y="414360"/>
            <a:ext cx="838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查看实习任务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→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习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→ 实习任务→查看详情（老师设置的要求都在里面哦）                               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直接箭头连接符 16" descr=""/>
          <p:cNvPicPr/>
          <p:nvPr/>
        </p:nvPicPr>
        <p:blipFill>
          <a:blip r:embed="rId4"/>
          <a:stretch/>
        </p:blipFill>
        <p:spPr>
          <a:xfrm>
            <a:off x="6145200" y="2073240"/>
            <a:ext cx="725400" cy="425520"/>
          </a:xfrm>
          <a:prstGeom prst="rect">
            <a:avLst/>
          </a:prstGeom>
          <a:ln w="0">
            <a:noFill/>
          </a:ln>
        </p:spPr>
      </p:pic>
      <p:sp>
        <p:nvSpPr>
          <p:cNvPr id="615" name="文本框 5"/>
          <p:cNvSpPr/>
          <p:nvPr/>
        </p:nvSpPr>
        <p:spPr>
          <a:xfrm>
            <a:off x="277920" y="2543040"/>
            <a:ext cx="404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成长模块在底部哦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2793960" y="1557360"/>
            <a:ext cx="590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点击实习任务，可查看计划具体要求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直接箭头连接符 4" descr=""/>
          <p:cNvPicPr/>
          <p:nvPr/>
        </p:nvPicPr>
        <p:blipFill>
          <a:blip r:embed="rId5"/>
          <a:stretch/>
        </p:blipFill>
        <p:spPr>
          <a:xfrm>
            <a:off x="652320" y="3962520"/>
            <a:ext cx="731880" cy="6458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5"/>
          <p:cNvSpPr/>
          <p:nvPr/>
        </p:nvSpPr>
        <p:spPr>
          <a:xfrm>
            <a:off x="5695920" y="1076400"/>
            <a:ext cx="666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查看详情，可查看实习要求和项目信息，包括指导老师信息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直接箭头连接符 7" descr=""/>
          <p:cNvPicPr/>
          <p:nvPr/>
        </p:nvPicPr>
        <p:blipFill>
          <a:blip r:embed="rId6"/>
          <a:stretch/>
        </p:blipFill>
        <p:spPr>
          <a:xfrm>
            <a:off x="3267000" y="2030400"/>
            <a:ext cx="682560" cy="384120"/>
          </a:xfrm>
          <a:prstGeom prst="rect">
            <a:avLst/>
          </a:prstGeom>
          <a:ln w="0">
            <a:noFill/>
          </a:ln>
        </p:spPr>
      </p:pic>
      <p:pic>
        <p:nvPicPr>
          <p:cNvPr id="620" name="直接箭头连接符 13" descr=""/>
          <p:cNvPicPr/>
          <p:nvPr/>
        </p:nvPicPr>
        <p:blipFill>
          <a:blip r:embed="rId7"/>
          <a:stretch/>
        </p:blipFill>
        <p:spPr>
          <a:xfrm>
            <a:off x="1957320" y="2487600"/>
            <a:ext cx="932040" cy="407880"/>
          </a:xfrm>
          <a:prstGeom prst="rect">
            <a:avLst/>
          </a:prstGeom>
          <a:ln w="0">
            <a:noFill/>
          </a:ln>
        </p:spPr>
      </p:pic>
      <p:pic>
        <p:nvPicPr>
          <p:cNvPr id="621" name="直接箭头连接符 15" descr=""/>
          <p:cNvPicPr/>
          <p:nvPr/>
        </p:nvPicPr>
        <p:blipFill>
          <a:blip r:embed="rId8"/>
          <a:stretch/>
        </p:blipFill>
        <p:spPr>
          <a:xfrm>
            <a:off x="3895560" y="1523880"/>
            <a:ext cx="1901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5" descr=""/>
          <p:cNvPicPr/>
          <p:nvPr/>
        </p:nvPicPr>
        <p:blipFill>
          <a:blip r:embed="rId1"/>
          <a:stretch/>
        </p:blipFill>
        <p:spPr>
          <a:xfrm>
            <a:off x="2771640" y="906480"/>
            <a:ext cx="1663920" cy="36450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6" descr=""/>
          <p:cNvPicPr/>
          <p:nvPr/>
        </p:nvPicPr>
        <p:blipFill>
          <a:blip r:embed="rId2"/>
          <a:stretch/>
        </p:blipFill>
        <p:spPr>
          <a:xfrm>
            <a:off x="341280" y="906480"/>
            <a:ext cx="1662120" cy="3738600"/>
          </a:xfrm>
          <a:prstGeom prst="rect">
            <a:avLst/>
          </a:prstGeom>
          <a:ln w="0">
            <a:noFill/>
          </a:ln>
        </p:spPr>
      </p:pic>
      <p:sp>
        <p:nvSpPr>
          <p:cNvPr id="624" name="矩形 59407"/>
          <p:cNvSpPr/>
          <p:nvPr/>
        </p:nvSpPr>
        <p:spPr>
          <a:xfrm>
            <a:off x="12600" y="504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文鼎中楷体"/>
                <a:ea typeface="文鼎中楷体"/>
              </a:rPr>
              <a:t>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交日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3"/>
          <a:stretch/>
        </p:blipFill>
        <p:spPr>
          <a:xfrm>
            <a:off x="4856040" y="816120"/>
            <a:ext cx="1724040" cy="373536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9" descr=""/>
          <p:cNvPicPr/>
          <p:nvPr/>
        </p:nvPicPr>
        <p:blipFill>
          <a:blip r:embed="rId4"/>
          <a:stretch/>
        </p:blipFill>
        <p:spPr>
          <a:xfrm>
            <a:off x="6970680" y="816120"/>
            <a:ext cx="1724040" cy="3733560"/>
          </a:xfrm>
          <a:prstGeom prst="rect">
            <a:avLst/>
          </a:prstGeom>
          <a:ln w="0">
            <a:noFill/>
          </a:ln>
        </p:spPr>
      </p:pic>
      <p:sp>
        <p:nvSpPr>
          <p:cNvPr id="627" name="文本框 5"/>
          <p:cNvSpPr/>
          <p:nvPr/>
        </p:nvSpPr>
        <p:spPr>
          <a:xfrm>
            <a:off x="2771640" y="2751120"/>
            <a:ext cx="201456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草稿箱在这里哟</a:t>
            </a:r>
            <a:r>
              <a:rPr b="0" lang="en-US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~~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矩形 16"/>
          <p:cNvSpPr/>
          <p:nvPr/>
        </p:nvSpPr>
        <p:spPr>
          <a:xfrm>
            <a:off x="6937200" y="3157560"/>
            <a:ext cx="166392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f0024"/>
                </a:solidFill>
                <a:latin typeface="文鼎中楷体"/>
                <a:ea typeface="文鼎中楷体"/>
              </a:rPr>
              <a:t>关联日期必须在实习时间范围内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2"/>
          <p:cNvSpPr/>
          <p:nvPr/>
        </p:nvSpPr>
        <p:spPr>
          <a:xfrm>
            <a:off x="142920" y="343080"/>
            <a:ext cx="8389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径：</a:t>
            </a:r>
            <a:r>
              <a:rPr b="0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提交日志，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长→ 周日志→点击“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+”</a:t>
            </a:r>
            <a:r>
              <a:rPr b="0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，写日志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直接箭头连接符 1" descr=""/>
          <p:cNvPicPr/>
          <p:nvPr/>
        </p:nvPicPr>
        <p:blipFill>
          <a:blip r:embed="rId5"/>
          <a:stretch/>
        </p:blipFill>
        <p:spPr>
          <a:xfrm>
            <a:off x="1042920" y="1487520"/>
            <a:ext cx="1243080" cy="695160"/>
          </a:xfrm>
          <a:prstGeom prst="rect">
            <a:avLst/>
          </a:prstGeom>
          <a:ln w="0">
            <a:noFill/>
          </a:ln>
        </p:spPr>
      </p:pic>
      <p:pic>
        <p:nvPicPr>
          <p:cNvPr id="631" name="直接箭头连接符 3" descr=""/>
          <p:cNvPicPr/>
          <p:nvPr/>
        </p:nvPicPr>
        <p:blipFill>
          <a:blip r:embed="rId6"/>
          <a:stretch/>
        </p:blipFill>
        <p:spPr>
          <a:xfrm>
            <a:off x="3524400" y="3060720"/>
            <a:ext cx="736560" cy="1004760"/>
          </a:xfrm>
          <a:prstGeom prst="rect">
            <a:avLst/>
          </a:prstGeom>
          <a:ln w="0">
            <a:noFill/>
          </a:ln>
        </p:spPr>
      </p:pic>
      <p:pic>
        <p:nvPicPr>
          <p:cNvPr id="632" name="直接箭头连接符 4" descr=""/>
          <p:cNvPicPr/>
          <p:nvPr/>
        </p:nvPicPr>
        <p:blipFill>
          <a:blip r:embed="rId7"/>
          <a:stretch/>
        </p:blipFill>
        <p:spPr>
          <a:xfrm>
            <a:off x="7620120" y="2657520"/>
            <a:ext cx="560160" cy="780840"/>
          </a:xfrm>
          <a:prstGeom prst="rect">
            <a:avLst/>
          </a:prstGeom>
          <a:ln w="0">
            <a:noFill/>
          </a:ln>
        </p:spPr>
      </p:pic>
      <p:pic>
        <p:nvPicPr>
          <p:cNvPr id="633" name="文本框 7" descr=""/>
          <p:cNvPicPr/>
          <p:nvPr/>
        </p:nvPicPr>
        <p:blipFill>
          <a:blip r:embed="rId8"/>
          <a:stretch/>
        </p:blipFill>
        <p:spPr>
          <a:xfrm>
            <a:off x="2157480" y="1030320"/>
            <a:ext cx="5000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9T09:44:00Z</dcterms:created>
  <dc:creator>Administrator</dc:creator>
  <dc:description/>
  <dc:language>en-US</dc:language>
  <cp:lastModifiedBy>Administrator</cp:lastModifiedBy>
  <dcterms:modified xsi:type="dcterms:W3CDTF">2022-05-20T02:13:46Z</dcterms:modified>
  <cp:revision>4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B3B31EBC04E4101A8FF82A3AD3B42E7</vt:lpwstr>
  </property>
  <property fmtid="{D5CDD505-2E9C-101B-9397-08002B2CF9AE}" pid="3" name="KSOProductBuildVer">
    <vt:lpwstr>2052-11.1.0.11691</vt:lpwstr>
  </property>
</Properties>
</file>